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png" ContentType="image/png"/>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567D8C30-44CA-40B2-8011-4FC0E8F52A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77155C66-A426-49EA-B110-7B18255B14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D58EE9DA-A508-46DD-9D07-E47255977C6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AF383094-C6F9-4380-8A95-2578B997352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0203E6-1513-40FF-845A-96934321C7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AD47E3-82A6-4E53-82BD-C81D5CE668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08F466-2591-412C-8D72-D374A6A5D1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549CAB-9526-422A-B6B2-90BA355EC8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A571E7-5ADC-4C54-A032-575FCA9ED5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EB83AF-B8AF-4036-8738-7B158A664F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9A3358-8208-4CFA-8660-22708D491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9414E8D5-F560-4338-9685-13E0C17A2E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B24BB-15BB-47B0-9BB1-A553A12B14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587E5-23B6-41F9-A6DB-95595FD72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4B0117-C18A-4714-973B-92ED4267CD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12FAF3-ABE8-47C8-9EA4-0DEDA6CA46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8534E0-1231-4D50-876F-05B3642D92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2524EA30-91BC-45EB-8FC1-189E3EF521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2739E22D-6CEE-427A-842D-2A66081AC2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3FEE5A4C-E3C4-47E8-8156-227D441E0D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E66CF0A1-77C1-4016-B6B9-9E30788EFC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F7B2966-FF2F-4353-BFA3-5187EEDB21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F2C6B6D-A94A-4E23-A9C2-D4E9BFCAB1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CCE2989-4473-4577-8749-AF06CC10C1D4}"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a16"/>
            </a:gs>
            <a:gs pos="100000">
              <a:srgbClr val="4e5d31"/>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4e5d31"/>
                </a:gs>
                <a:gs pos="100000">
                  <a:srgbClr val="46542c"/>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4e5d31"/>
                </a:gs>
                <a:gs pos="100000">
                  <a:srgbClr val="46542c"/>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4e5d31"/>
                </a:gs>
                <a:gs pos="100000">
                  <a:srgbClr val="46542c"/>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4e5d31"/>
                </a:gs>
                <a:gs pos="100000">
                  <a:srgbClr val="46542c"/>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4e5d31"/>
                </a:gs>
                <a:gs pos="100000">
                  <a:srgbClr val="46542c"/>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4e5d31"/>
                </a:gs>
                <a:gs pos="100000">
                  <a:srgbClr val="46542c"/>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4e5d31"/>
                </a:gs>
                <a:gs pos="100000">
                  <a:srgbClr val="46542c"/>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414e29"/>
                </a:gs>
                <a:gs pos="100000">
                  <a:srgbClr val="4e5d31"/>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3a4624"/>
                </a:gs>
                <a:gs pos="100000">
                  <a:srgbClr val="4e5d31"/>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2f381d"/>
                </a:gs>
                <a:gs pos="100000">
                  <a:srgbClr val="4e5d31"/>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32a16"/>
                </a:gs>
                <a:gs pos="100000">
                  <a:srgbClr val="4e5d31"/>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71b0e"/>
                </a:gs>
                <a:gs pos="100000">
                  <a:srgbClr val="4e5d31"/>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20201"/>
                </a:gs>
                <a:gs pos="100000">
                  <a:srgbClr val="4e5d31"/>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4e5d31"/>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4e5d31"/>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2a321a"/>
                </a:gs>
                <a:gs pos="100000">
                  <a:srgbClr val="4e5d31"/>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313a1f"/>
                </a:gs>
                <a:gs pos="100000">
                  <a:srgbClr val="4e5d31"/>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313a1f"/>
                </a:gs>
                <a:gs pos="100000">
                  <a:srgbClr val="4e5d31"/>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252d17"/>
                </a:gs>
                <a:gs pos="100000">
                  <a:srgbClr val="4e5d31"/>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2c351c"/>
                </a:gs>
                <a:gs pos="100000">
                  <a:srgbClr val="4e5d31"/>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2f381d"/>
                </a:gs>
                <a:gs pos="100000">
                  <a:srgbClr val="4e5d31"/>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2f381d"/>
                </a:gs>
                <a:gs pos="100000">
                  <a:srgbClr val="4e5d31"/>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2f381d"/>
                </a:gs>
                <a:gs pos="100000">
                  <a:srgbClr val="4e5d31"/>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2f381d"/>
                </a:gs>
                <a:gs pos="100000">
                  <a:srgbClr val="4e5d31"/>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2f381d"/>
                </a:gs>
                <a:gs pos="100000">
                  <a:srgbClr val="4e5d31"/>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2a321a"/>
                </a:gs>
                <a:gs pos="100000">
                  <a:srgbClr val="4e5d31"/>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272f19"/>
                </a:gs>
                <a:gs pos="100000">
                  <a:srgbClr val="4e5d31"/>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3a4624"/>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2f381d"/>
                </a:gs>
                <a:gs pos="100000">
                  <a:srgbClr val="4e5d31"/>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2f381d"/>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3a4624"/>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3a4624"/>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3a4624"/>
                </a:gs>
                <a:gs pos="100000">
                  <a:srgbClr val="4e5d31"/>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3d4926"/>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3d4926"/>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3d4926"/>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3d4926"/>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3d4926"/>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3d4926"/>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414e29"/>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414e29"/>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3d4926"/>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3d4926"/>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3a4624"/>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414e29"/>
                </a:gs>
                <a:gs pos="100000">
                  <a:srgbClr val="4e5d3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44512a"/>
                </a:gs>
                <a:gs pos="100000">
                  <a:srgbClr val="4e5d31"/>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44512a"/>
                </a:gs>
                <a:gs pos="100000">
                  <a:srgbClr val="4e5d31"/>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44512a"/>
                </a:gs>
                <a:gs pos="100000">
                  <a:srgbClr val="4e5d31"/>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3a4624"/>
                </a:gs>
                <a:gs pos="100000">
                  <a:srgbClr val="4e5d31"/>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3a4624"/>
                </a:gs>
                <a:gs pos="100000">
                  <a:srgbClr val="4e5d3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2a321a"/>
                </a:gs>
                <a:gs pos="100000">
                  <a:srgbClr val="4653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2a321a"/>
                </a:gs>
                <a:gs pos="100000">
                  <a:srgbClr val="4653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2a321a"/>
                </a:gs>
                <a:gs pos="100000">
                  <a:srgbClr val="4653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2a321a"/>
                </a:gs>
                <a:gs pos="100000">
                  <a:srgbClr val="4653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2a321a"/>
                </a:gs>
                <a:gs pos="100000">
                  <a:srgbClr val="4653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2a321a"/>
                </a:gs>
                <a:gs pos="100000">
                  <a:srgbClr val="4653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2a321a"/>
                </a:gs>
                <a:gs pos="100000">
                  <a:srgbClr val="4653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2a321a"/>
                </a:gs>
                <a:gs pos="100000">
                  <a:srgbClr val="46532b"/>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2a321a"/>
                </a:gs>
                <a:gs pos="100000">
                  <a:srgbClr val="46532b"/>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2a321a"/>
                </a:gs>
                <a:gs pos="100000">
                  <a:srgbClr val="46532b"/>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282f18"/>
                </a:gs>
                <a:gs pos="100000">
                  <a:srgbClr val="46532b"/>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282f18"/>
                </a:gs>
                <a:gs pos="100000">
                  <a:srgbClr val="46532b"/>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394323"/>
                </a:gs>
                <a:gs pos="100000">
                  <a:srgbClr val="46532b"/>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394323"/>
                </a:gs>
                <a:gs pos="100000">
                  <a:srgbClr val="46532b"/>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2a321a"/>
                </a:gs>
                <a:gs pos="100000">
                  <a:srgbClr val="46532b"/>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2a321a"/>
                </a:gs>
                <a:gs pos="100000">
                  <a:srgbClr val="46532b"/>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3a4624"/>
                </a:gs>
                <a:gs pos="100000">
                  <a:srgbClr val="4e5d31"/>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3d4926"/>
                </a:gs>
                <a:gs pos="100000">
                  <a:srgbClr val="4e5d3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3d4926"/>
                </a:gs>
                <a:gs pos="100000">
                  <a:srgbClr val="4e5d31"/>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414e29"/>
                </a:gs>
                <a:gs pos="100000">
                  <a:srgbClr val="4e5d3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414e29"/>
                </a:gs>
                <a:gs pos="100000">
                  <a:srgbClr val="4e5d3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44512a"/>
                </a:gs>
                <a:gs pos="100000">
                  <a:srgbClr val="4e5d31"/>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3a4624"/>
                </a:gs>
                <a:gs pos="100000">
                  <a:srgbClr val="4e5d31"/>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414e29"/>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414e29"/>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3d4926"/>
                </a:gs>
                <a:gs pos="100000">
                  <a:srgbClr val="4e5d31"/>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3d4926"/>
                </a:gs>
                <a:gs pos="100000">
                  <a:srgbClr val="4e5d31"/>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44512a"/>
                </a:gs>
                <a:gs pos="100000">
                  <a:srgbClr val="4e5d31"/>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3d4926"/>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414e29"/>
                </a:gs>
                <a:gs pos="100000">
                  <a:srgbClr val="4e5d31"/>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44512a"/>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44512a"/>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414e29"/>
                </a:gs>
                <a:gs pos="100000">
                  <a:srgbClr val="4e5d31"/>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44512a"/>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44512a"/>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44512a"/>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414e29"/>
                </a:gs>
                <a:gs pos="100000">
                  <a:srgbClr val="4e5d3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3d4926"/>
                </a:gs>
                <a:gs pos="100000">
                  <a:srgbClr val="4e5d3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3a4624"/>
                </a:gs>
                <a:gs pos="100000">
                  <a:srgbClr val="4e5d3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3a4624"/>
                </a:gs>
                <a:gs pos="100000">
                  <a:srgbClr val="4e5d31"/>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282f18"/>
                </a:gs>
                <a:gs pos="100000">
                  <a:srgbClr val="4653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282f18"/>
                </a:gs>
                <a:gs pos="100000">
                  <a:srgbClr val="4653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282f18"/>
                </a:gs>
                <a:gs pos="100000">
                  <a:srgbClr val="4653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282f18"/>
                </a:gs>
                <a:gs pos="100000">
                  <a:srgbClr val="4653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282f18"/>
                </a:gs>
                <a:gs pos="100000">
                  <a:srgbClr val="4653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282f18"/>
                </a:gs>
                <a:gs pos="100000">
                  <a:srgbClr val="4653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282f18"/>
                </a:gs>
                <a:gs pos="100000">
                  <a:srgbClr val="4653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282f18"/>
                </a:gs>
                <a:gs pos="100000">
                  <a:srgbClr val="46532b"/>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262d17"/>
                </a:gs>
                <a:gs pos="100000">
                  <a:srgbClr val="46532b"/>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282f18"/>
                </a:gs>
                <a:gs pos="100000">
                  <a:srgbClr val="46532b"/>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282f18"/>
                </a:gs>
                <a:gs pos="100000">
                  <a:srgbClr val="46532b"/>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282f18"/>
                </a:gs>
                <a:gs pos="100000">
                  <a:srgbClr val="46532b"/>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394323"/>
                </a:gs>
                <a:gs pos="100000">
                  <a:srgbClr val="46532b"/>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394323"/>
                </a:gs>
                <a:gs pos="100000">
                  <a:srgbClr val="46532b"/>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394323"/>
                </a:gs>
                <a:gs pos="100000">
                  <a:srgbClr val="46532b"/>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32a16"/>
                </a:gs>
                <a:gs pos="100000">
                  <a:srgbClr val="424f2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32a16"/>
                </a:gs>
                <a:gs pos="100000">
                  <a:srgbClr val="424f2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191e10"/>
                </a:gs>
                <a:gs pos="100000">
                  <a:srgbClr val="424f2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191e10"/>
                </a:gs>
                <a:gs pos="100000">
                  <a:srgbClr val="424f2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32a16"/>
                </a:gs>
                <a:gs pos="100000">
                  <a:srgbClr val="424f2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32a16"/>
                </a:gs>
                <a:gs pos="100000">
                  <a:srgbClr val="424f2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191e10"/>
                </a:gs>
                <a:gs pos="100000">
                  <a:srgbClr val="424f2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32a16"/>
                </a:gs>
                <a:gs pos="100000">
                  <a:srgbClr val="424f2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32a16"/>
                </a:gs>
                <a:gs pos="100000">
                  <a:srgbClr val="424f2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191e10"/>
                </a:gs>
                <a:gs pos="100000">
                  <a:srgbClr val="424f2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32a16"/>
                </a:gs>
                <a:gs pos="100000">
                  <a:srgbClr val="424f2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32a16"/>
                </a:gs>
                <a:gs pos="100000">
                  <a:srgbClr val="424f2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32a16"/>
                </a:gs>
                <a:gs pos="100000">
                  <a:srgbClr val="424f2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32a16"/>
                </a:gs>
                <a:gs pos="100000">
                  <a:srgbClr val="424f2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32a16"/>
                </a:gs>
                <a:gs pos="100000">
                  <a:srgbClr val="424f2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52d17"/>
                </a:gs>
                <a:gs pos="100000">
                  <a:srgbClr val="424f2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52d17"/>
                </a:gs>
                <a:gs pos="100000">
                  <a:srgbClr val="424f2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32a16"/>
                </a:gs>
                <a:gs pos="100000">
                  <a:srgbClr val="424f2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3a4624"/>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191e10"/>
                </a:gs>
                <a:gs pos="100000">
                  <a:srgbClr val="424f2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BF25E-F2D2-4309-AE8A-B45CA8C4498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a1b2"/>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a1b2"/>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d17"/>
            </a:gs>
            <a:gs pos="100000">
              <a:srgbClr val="4e5d31"/>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4e5d31"/>
                </a:gs>
                <a:gs pos="100000">
                  <a:srgbClr val="46542c"/>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4e5d31"/>
                </a:gs>
                <a:gs pos="100000">
                  <a:srgbClr val="46542c"/>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4e5d31"/>
                </a:gs>
                <a:gs pos="100000">
                  <a:srgbClr val="46542c"/>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4e5d31"/>
                </a:gs>
                <a:gs pos="100000">
                  <a:srgbClr val="46542c"/>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4e5d31"/>
                </a:gs>
                <a:gs pos="100000">
                  <a:srgbClr val="46542c"/>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4e5d31"/>
                </a:gs>
                <a:gs pos="100000">
                  <a:srgbClr val="46542c"/>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4e5d31"/>
                </a:gs>
                <a:gs pos="100000">
                  <a:srgbClr val="46542c"/>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414e29"/>
                </a:gs>
                <a:gs pos="100000">
                  <a:srgbClr val="4e5d31"/>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3a4624"/>
                </a:gs>
                <a:gs pos="100000">
                  <a:srgbClr val="4e5d31"/>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2f381d"/>
                </a:gs>
                <a:gs pos="100000">
                  <a:srgbClr val="4e5d31"/>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32a16"/>
                </a:gs>
                <a:gs pos="100000">
                  <a:srgbClr val="4e5d31"/>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71b0e"/>
                </a:gs>
                <a:gs pos="100000">
                  <a:srgbClr val="4e5d31"/>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20201"/>
                </a:gs>
                <a:gs pos="100000">
                  <a:srgbClr val="4e5d31"/>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4e5d31"/>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4e5d31"/>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2a321a"/>
                </a:gs>
                <a:gs pos="100000">
                  <a:srgbClr val="4e5d31"/>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313a1f"/>
                </a:gs>
                <a:gs pos="100000">
                  <a:srgbClr val="4e5d31"/>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313a1f"/>
                </a:gs>
                <a:gs pos="100000">
                  <a:srgbClr val="4e5d31"/>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252d17"/>
                </a:gs>
                <a:gs pos="100000">
                  <a:srgbClr val="4e5d31"/>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2c351c"/>
                </a:gs>
                <a:gs pos="100000">
                  <a:srgbClr val="4e5d31"/>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2f381d"/>
                </a:gs>
                <a:gs pos="100000">
                  <a:srgbClr val="4e5d31"/>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2f381d"/>
                </a:gs>
                <a:gs pos="100000">
                  <a:srgbClr val="4e5d31"/>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2f381d"/>
                </a:gs>
                <a:gs pos="100000">
                  <a:srgbClr val="4e5d31"/>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2f381d"/>
                </a:gs>
                <a:gs pos="100000">
                  <a:srgbClr val="4e5d31"/>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2f381d"/>
                </a:gs>
                <a:gs pos="100000">
                  <a:srgbClr val="4e5d31"/>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2a321a"/>
                </a:gs>
                <a:gs pos="100000">
                  <a:srgbClr val="4e5d31"/>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272f19"/>
                </a:gs>
                <a:gs pos="100000">
                  <a:srgbClr val="4e5d31"/>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3a4624"/>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2f381d"/>
                </a:gs>
                <a:gs pos="100000">
                  <a:srgbClr val="4e5d31"/>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2f381d"/>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3a4624"/>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3a4624"/>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3a4624"/>
                </a:gs>
                <a:gs pos="100000">
                  <a:srgbClr val="4e5d31"/>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3d4926"/>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3d4926"/>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3d4926"/>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3d4926"/>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3d4926"/>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3d4926"/>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414e29"/>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414e29"/>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3d4926"/>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3d4926"/>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3a4624"/>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414e29"/>
                </a:gs>
                <a:gs pos="100000">
                  <a:srgbClr val="4e5d3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44512a"/>
                </a:gs>
                <a:gs pos="100000">
                  <a:srgbClr val="4e5d31"/>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44512a"/>
                </a:gs>
                <a:gs pos="100000">
                  <a:srgbClr val="4e5d31"/>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44512a"/>
                </a:gs>
                <a:gs pos="100000">
                  <a:srgbClr val="4e5d31"/>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3a4624"/>
                </a:gs>
                <a:gs pos="100000">
                  <a:srgbClr val="4e5d31"/>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3a4624"/>
                </a:gs>
                <a:gs pos="100000">
                  <a:srgbClr val="4e5d3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2a321a"/>
                </a:gs>
                <a:gs pos="100000">
                  <a:srgbClr val="4653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2a321a"/>
                </a:gs>
                <a:gs pos="100000">
                  <a:srgbClr val="4653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2a321a"/>
                </a:gs>
                <a:gs pos="100000">
                  <a:srgbClr val="4653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2a321a"/>
                </a:gs>
                <a:gs pos="100000">
                  <a:srgbClr val="4653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2a321a"/>
                </a:gs>
                <a:gs pos="100000">
                  <a:srgbClr val="4653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2a321a"/>
                </a:gs>
                <a:gs pos="100000">
                  <a:srgbClr val="4653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2a321a"/>
                </a:gs>
                <a:gs pos="100000">
                  <a:srgbClr val="4653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2a321a"/>
                </a:gs>
                <a:gs pos="100000">
                  <a:srgbClr val="46532b"/>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2a321a"/>
                </a:gs>
                <a:gs pos="100000">
                  <a:srgbClr val="46532b"/>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2a321a"/>
                </a:gs>
                <a:gs pos="100000">
                  <a:srgbClr val="46532b"/>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282f18"/>
                </a:gs>
                <a:gs pos="100000">
                  <a:srgbClr val="46532b"/>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282f18"/>
                </a:gs>
                <a:gs pos="100000">
                  <a:srgbClr val="46532b"/>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394323"/>
                </a:gs>
                <a:gs pos="100000">
                  <a:srgbClr val="46532b"/>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394323"/>
                </a:gs>
                <a:gs pos="100000">
                  <a:srgbClr val="46532b"/>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2a321a"/>
                </a:gs>
                <a:gs pos="100000">
                  <a:srgbClr val="46532b"/>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2a321a"/>
                </a:gs>
                <a:gs pos="100000">
                  <a:srgbClr val="46532b"/>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3a4624"/>
                </a:gs>
                <a:gs pos="100000">
                  <a:srgbClr val="4e5d31"/>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3d4926"/>
                </a:gs>
                <a:gs pos="100000">
                  <a:srgbClr val="4e5d3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3d4926"/>
                </a:gs>
                <a:gs pos="100000">
                  <a:srgbClr val="4e5d31"/>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414e29"/>
                </a:gs>
                <a:gs pos="100000">
                  <a:srgbClr val="4e5d3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414e29"/>
                </a:gs>
                <a:gs pos="100000">
                  <a:srgbClr val="4e5d3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44512a"/>
                </a:gs>
                <a:gs pos="100000">
                  <a:srgbClr val="4e5d31"/>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333d20"/>
                </a:gs>
                <a:gs pos="100000">
                  <a:srgbClr val="4e5d31"/>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3a4624"/>
                </a:gs>
                <a:gs pos="100000">
                  <a:srgbClr val="4e5d31"/>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414e29"/>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414e29"/>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3d4926"/>
                </a:gs>
                <a:gs pos="100000">
                  <a:srgbClr val="4e5d31"/>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3d4926"/>
                </a:gs>
                <a:gs pos="100000">
                  <a:srgbClr val="4e5d31"/>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44512a"/>
                </a:gs>
                <a:gs pos="100000">
                  <a:srgbClr val="4e5d31"/>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3d4926"/>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3f4b28"/>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414e29"/>
                </a:gs>
                <a:gs pos="100000">
                  <a:srgbClr val="4e5d31"/>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44512a"/>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44512a"/>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414e29"/>
                </a:gs>
                <a:gs pos="100000">
                  <a:srgbClr val="4e5d31"/>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44512a"/>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44512a"/>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44512a"/>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414e29"/>
                </a:gs>
                <a:gs pos="100000">
                  <a:srgbClr val="4e5d3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3d4926"/>
                </a:gs>
                <a:gs pos="100000">
                  <a:srgbClr val="4e5d3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3a4624"/>
                </a:gs>
                <a:gs pos="100000">
                  <a:srgbClr val="4e5d3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3a4624"/>
                </a:gs>
                <a:gs pos="100000">
                  <a:srgbClr val="4e5d31"/>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282f18"/>
                </a:gs>
                <a:gs pos="100000">
                  <a:srgbClr val="4653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282f18"/>
                </a:gs>
                <a:gs pos="100000">
                  <a:srgbClr val="4653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282f18"/>
                </a:gs>
                <a:gs pos="100000">
                  <a:srgbClr val="4653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282f18"/>
                </a:gs>
                <a:gs pos="100000">
                  <a:srgbClr val="4653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282f18"/>
                </a:gs>
                <a:gs pos="100000">
                  <a:srgbClr val="4653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282f18"/>
                </a:gs>
                <a:gs pos="100000">
                  <a:srgbClr val="4653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282f18"/>
                </a:gs>
                <a:gs pos="100000">
                  <a:srgbClr val="46532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282f18"/>
                </a:gs>
                <a:gs pos="100000">
                  <a:srgbClr val="46532b"/>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262d17"/>
                </a:gs>
                <a:gs pos="100000">
                  <a:srgbClr val="46532b"/>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282f18"/>
                </a:gs>
                <a:gs pos="100000">
                  <a:srgbClr val="46532b"/>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282f18"/>
                </a:gs>
                <a:gs pos="100000">
                  <a:srgbClr val="46532b"/>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282f18"/>
                </a:gs>
                <a:gs pos="100000">
                  <a:srgbClr val="46532b"/>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394323"/>
                </a:gs>
                <a:gs pos="100000">
                  <a:srgbClr val="46532b"/>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394323"/>
                </a:gs>
                <a:gs pos="100000">
                  <a:srgbClr val="46532b"/>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394323"/>
                </a:gs>
                <a:gs pos="100000">
                  <a:srgbClr val="46532b"/>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2a321a"/>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2a321a"/>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1e2413"/>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1e2413"/>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2a321a"/>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2a321a"/>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1e2413"/>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2a321a"/>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2a321a"/>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1e2413"/>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2a321a"/>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2a321a"/>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2a321a"/>
                </a:gs>
                <a:gs pos="100000">
                  <a:srgbClr val="4e5d31"/>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2a321a"/>
                </a:gs>
                <a:gs pos="100000">
                  <a:srgbClr val="4e5d31"/>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2a321a"/>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2c351c"/>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2c351c"/>
                </a:gs>
                <a:gs pos="100000">
                  <a:srgbClr val="4e5d3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2a321a"/>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364022"/>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3a4624"/>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46542c"/>
                </a:gs>
                <a:gs pos="100000">
                  <a:srgbClr val="4e5d31"/>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1e2413"/>
                </a:gs>
                <a:gs pos="100000">
                  <a:srgbClr val="4e5d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Click to edit the title text format</a:t>
            </a:r>
            <a:endParaRPr b="0" lang="en-US" sz="5400" spc="-1" strike="noStrike">
              <a:solidFill>
                <a:srgbClr val="ffffcc"/>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F2122-A9EE-46C3-855D-F3F319699BF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33cc33"/>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a1b2"/>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33cc33"/>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d17"/>
            </a:gs>
            <a:gs pos="100000">
              <a:srgbClr val="4e5d31"/>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1066680" y="228600"/>
            <a:ext cx="6858000" cy="457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a:rPr>
              <a:t>Newton Video #1</a:t>
            </a:r>
            <a:endParaRPr b="0" lang="en-US" sz="4800" spc="-1" strike="noStrike">
              <a:solidFill>
                <a:srgbClr val="ffffcc"/>
              </a:solidFill>
              <a:latin typeface="Arial"/>
            </a:endParaRPr>
          </a:p>
        </p:txBody>
      </p:sp>
      <p:sp>
        <p:nvSpPr>
          <p:cNvPr id="515" name="PlaceHolder 2"/>
          <p:cNvSpPr>
            <a:spLocks noGrp="1"/>
          </p:cNvSpPr>
          <p:nvPr>
            <p:ph type="subTitle"/>
          </p:nvPr>
        </p:nvSpPr>
        <p:spPr>
          <a:xfrm>
            <a:off x="304560" y="685440"/>
            <a:ext cx="8381880" cy="76212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swer the following questions on a separate sheet of paper and turn in by the end of the period.</a:t>
            </a:r>
            <a:endParaRPr b="0" lang="en-US" sz="2400" spc="-1" strike="noStrike">
              <a:solidFill>
                <a:srgbClr val="ffffff"/>
              </a:solidFill>
              <a:latin typeface="Arial"/>
            </a:endParaRPr>
          </a:p>
        </p:txBody>
      </p:sp>
      <p:sp>
        <p:nvSpPr>
          <p:cNvPr id="516" name=""/>
          <p:cNvSpPr/>
          <p:nvPr/>
        </p:nvSpPr>
        <p:spPr>
          <a:xfrm>
            <a:off x="457200" y="1523880"/>
            <a:ext cx="8381880" cy="5220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flip a coin in an airplane going at constant speed, the coin will….</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does the coin do when the plane is landing (slowing down)?</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is the friction force acting on a wood block moving at constant speed when a 3N force is applied to it?</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is the air resistance acting on a plane moving at constant speed when 18tons of thrust is applied?</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cceleration is ______________ proportional to net force.</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is the equation of explaining Newton’s Second Law?</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cceleration is ______________ proportional to mass.</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___________ never pulled together the constant ratio between force and mass; Newton did.</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y does a heavy object fall with the same acceleration as a light object?</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is the force of air resistance acting on a leaf falling at constant spe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a16"/>
            </a:gs>
            <a:gs pos="100000">
              <a:srgbClr val="4e5d31"/>
            </a:gs>
          </a:gsLst>
          <a:lin ang="135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An object at rest on the ground has a net force equal to</a:t>
            </a:r>
            <a:endParaRPr b="0" lang="en-US" sz="4000" spc="-1" strike="noStrike">
              <a:solidFill>
                <a:srgbClr val="ffffcc"/>
              </a:solidFill>
              <a:latin typeface="Arial"/>
            </a:endParaRPr>
          </a:p>
        </p:txBody>
      </p:sp>
      <p:grpSp>
        <p:nvGrpSpPr>
          <p:cNvPr id="551" name="ResponseCounter"/>
          <p:cNvGrpSpPr/>
          <p:nvPr/>
        </p:nvGrpSpPr>
        <p:grpSpPr>
          <a:xfrm>
            <a:off x="127080" y="5778360"/>
            <a:ext cx="952200" cy="952560"/>
            <a:chOff x="127080" y="5778360"/>
            <a:chExt cx="952200" cy="952560"/>
          </a:xfrm>
        </p:grpSpPr>
        <p:sp>
          <p:nvSpPr>
            <p:cNvPr id="552" name="RCOuter" hidden="1"/>
            <p:cNvSpPr/>
            <p:nvPr/>
          </p:nvSpPr>
          <p:spPr>
            <a:xfrm>
              <a:off x="127080" y="5778360"/>
              <a:ext cx="952200" cy="952560"/>
            </a:xfrm>
            <a:prstGeom prst="ellipse">
              <a:avLst/>
            </a:prstGeom>
            <a:gradFill rotWithShape="0">
              <a:gsLst>
                <a:gs pos="0">
                  <a:srgbClr val="8f8c00"/>
                </a:gs>
                <a:gs pos="100000">
                  <a:srgbClr val="424f29">
                    <a:alpha val="45098"/>
                  </a:srgbClr>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3" name="RCInner" hidden="1"/>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11 of 20</a:t>
              </a:r>
              <a:endParaRPr b="0" lang="en-US" sz="1400" spc="-1" strike="noStrike">
                <a:solidFill>
                  <a:srgbClr val="ffffff"/>
                </a:solidFill>
                <a:latin typeface="Arial"/>
              </a:endParaRPr>
            </a:p>
          </p:txBody>
        </p:sp>
      </p:grpSp>
      <p:graphicFrame>
        <p:nvGraphicFramePr>
          <p:cNvPr id="554" name="TPChart"/>
          <p:cNvGraphicFramePr/>
          <p:nvPr/>
        </p:nvGraphicFramePr>
        <p:xfrm>
          <a:off x="4508640" y="1650960"/>
          <a:ext cx="4570200" cy="5141880"/>
        </p:xfrm>
        <a:graphic>
          <a:graphicData uri="http://schemas.openxmlformats.org/presentationml/2006/ole">
            <p:oleObj r:id="rId1" spid="">
              <p:embed/>
              <p:pic>
                <p:nvPicPr>
                  <p:cNvPr id="555"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556" name="PlaceHolder 2"/>
          <p:cNvSpPr>
            <a:spLocks noGrp="1"/>
          </p:cNvSpPr>
          <p:nvPr>
            <p:ph/>
          </p:nvPr>
        </p:nvSpPr>
        <p:spPr>
          <a:xfrm>
            <a:off x="457200" y="1600200"/>
            <a:ext cx="4114800" cy="4533840"/>
          </a:xfrm>
          <a:prstGeom prst="rect">
            <a:avLst/>
          </a:prstGeom>
          <a:noFill/>
          <a:ln w="0">
            <a:noFill/>
          </a:ln>
        </p:spPr>
        <p:txBody>
          <a:bodyPr lIns="90000" rIns="90000" tIns="46800" bIns="46800" anchor="t">
            <a:normAutofit/>
          </a:bodyPr>
          <a:p>
            <a:pPr marL="609480" indent="-609480">
              <a:spcBef>
                <a:spcPts val="799"/>
              </a:spcBef>
              <a:buClr>
                <a:srgbClr val="33cc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ight</a:t>
            </a:r>
            <a:endParaRPr b="0" lang="en-US" sz="3200" spc="-1" strike="noStrike">
              <a:solidFill>
                <a:srgbClr val="ffffff"/>
              </a:solidFill>
              <a:latin typeface="Arial"/>
            </a:endParaRPr>
          </a:p>
          <a:p>
            <a:pPr marL="609480" indent="-609480">
              <a:spcBef>
                <a:spcPts val="799"/>
              </a:spcBef>
              <a:buClr>
                <a:srgbClr val="33cc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s</a:t>
            </a:r>
            <a:endParaRPr b="0" lang="en-US" sz="3200" spc="-1" strike="noStrike">
              <a:solidFill>
                <a:srgbClr val="ffffff"/>
              </a:solidFill>
              <a:latin typeface="Arial"/>
            </a:endParaRPr>
          </a:p>
          <a:p>
            <a:pPr marL="609480" indent="-609480">
              <a:spcBef>
                <a:spcPts val="799"/>
              </a:spcBef>
              <a:buClr>
                <a:srgbClr val="33cc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m/s</a:t>
            </a:r>
            <a:r>
              <a:rPr b="0" lang="en-US" sz="3200" spc="-1" strike="noStrike" baseline="30000">
                <a:solidFill>
                  <a:srgbClr val="ffffff"/>
                </a:solidFill>
                <a:latin typeface="Arial"/>
              </a:rPr>
              <a:t>2</a:t>
            </a:r>
            <a:endParaRPr b="0" lang="en-US" sz="3200" spc="-1" strike="noStrike">
              <a:solidFill>
                <a:srgbClr val="ffffff"/>
              </a:solidFill>
              <a:latin typeface="Arial"/>
            </a:endParaRPr>
          </a:p>
          <a:p>
            <a:pPr marL="609480" indent="-609480">
              <a:spcBef>
                <a:spcPts val="799"/>
              </a:spcBef>
              <a:buClr>
                <a:srgbClr val="33cc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N</a:t>
            </a:r>
            <a:endParaRPr b="0" lang="en-US" sz="3200" spc="-1" strike="noStrike">
              <a:solidFill>
                <a:srgbClr val="ffffff"/>
              </a:solidFill>
              <a:latin typeface="Arial"/>
            </a:endParaRPr>
          </a:p>
          <a:p>
            <a:pPr marL="609480" indent="-609480">
              <a:spcBef>
                <a:spcPts val="799"/>
              </a:spcBef>
              <a:buClr>
                <a:srgbClr val="33cc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5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d17"/>
            </a:gs>
            <a:gs pos="100000">
              <a:srgbClr val="4e5d31"/>
            </a:gs>
          </a:gsLst>
          <a:lin ang="135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Lesson #28</a:t>
            </a:r>
            <a:br>
              <a:rPr sz="2400"/>
            </a:br>
            <a:r>
              <a:rPr b="1" lang="en-US" sz="2400" spc="-1" strike="noStrike">
                <a:solidFill>
                  <a:srgbClr val="ffffcc"/>
                </a:solidFill>
                <a:latin typeface="Arial"/>
              </a:rPr>
              <a:t>Topic: Graphing acceleration vs. net force or mass</a:t>
            </a:r>
            <a:endParaRPr b="0" lang="en-US" sz="2400" spc="-1" strike="noStrike">
              <a:solidFill>
                <a:srgbClr val="ffffcc"/>
              </a:solidFill>
              <a:latin typeface="Arial"/>
            </a:endParaRPr>
          </a:p>
        </p:txBody>
      </p:sp>
      <p:sp>
        <p:nvSpPr>
          <p:cNvPr id="558" name="PlaceHolder 2"/>
          <p:cNvSpPr>
            <a:spLocks noGrp="1"/>
          </p:cNvSpPr>
          <p:nvPr>
            <p:ph type="subTitle"/>
          </p:nvPr>
        </p:nvSpPr>
        <p:spPr>
          <a:xfrm>
            <a:off x="228600" y="1295280"/>
            <a:ext cx="8763120" cy="3353040"/>
          </a:xfrm>
          <a:prstGeom prst="rect">
            <a:avLst/>
          </a:prstGeom>
          <a:noFill/>
          <a:ln w="0">
            <a:noFill/>
          </a:ln>
        </p:spPr>
        <p:txBody>
          <a:bodyPr lIns="90000" rIns="90000" tIns="46800" bIns="46800" anchor="t">
            <a:noAutofit/>
          </a:bodyPr>
          <a:p>
            <a:pPr marL="68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 </a:t>
            </a:r>
            <a:r>
              <a:rPr b="0" lang="en-US" sz="2000" spc="-1" strike="noStrike">
                <a:solidFill>
                  <a:srgbClr val="ffffff"/>
                </a:solidFill>
                <a:latin typeface="Arial"/>
              </a:rPr>
              <a:t>(After this class I will be able to)</a:t>
            </a:r>
            <a:endParaRPr b="0" lang="en-US" sz="2000" spc="-1" strike="noStrike">
              <a:solidFill>
                <a:srgbClr val="ffffff"/>
              </a:solidFill>
              <a:latin typeface="Arial"/>
            </a:endParaRPr>
          </a:p>
          <a:p>
            <a:pPr marL="685800" indent="-685800">
              <a:spcBef>
                <a:spcPts val="700"/>
              </a:spcBef>
              <a:buClr>
                <a:srgbClr val="33cc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ph the relationships between acceleration, mass, and net force.</a:t>
            </a:r>
            <a:endParaRPr b="0" lang="en-US" sz="2800" spc="-1" strike="noStrike">
              <a:solidFill>
                <a:srgbClr val="ffffff"/>
              </a:solidFill>
              <a:latin typeface="Arial"/>
            </a:endParaRPr>
          </a:p>
          <a:p>
            <a:pPr marL="685800" indent="-685800">
              <a:spcBef>
                <a:spcPts val="700"/>
              </a:spcBef>
              <a:buClr>
                <a:srgbClr val="33cc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 a F</a:t>
            </a:r>
            <a:r>
              <a:rPr b="0" lang="en-US" sz="2800" spc="-1" strike="noStrike" baseline="-25000">
                <a:solidFill>
                  <a:srgbClr val="ffffff"/>
                </a:solidFill>
                <a:latin typeface="Arial"/>
              </a:rPr>
              <a:t>net</a:t>
            </a:r>
            <a:r>
              <a:rPr b="0" lang="en-US" sz="2800" spc="-1" strike="noStrike">
                <a:solidFill>
                  <a:srgbClr val="ffffff"/>
                </a:solidFill>
                <a:latin typeface="Arial"/>
              </a:rPr>
              <a:t> equation specific to each individual problem to solve for an object’s acceleration.</a:t>
            </a:r>
            <a:endParaRPr b="0" lang="en-US" sz="2800" spc="-1" strike="noStrike">
              <a:solidFill>
                <a:srgbClr val="ffffff"/>
              </a:solidFill>
              <a:latin typeface="Arial"/>
            </a:endParaRPr>
          </a:p>
        </p:txBody>
      </p:sp>
      <p:sp>
        <p:nvSpPr>
          <p:cNvPr id="559"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10/06</a:t>
            </a:r>
            <a:endParaRPr b="0" lang="en-US" sz="1800" spc="-1" strike="noStrike">
              <a:solidFill>
                <a:srgbClr val="ffffff"/>
              </a:solidFill>
              <a:latin typeface="Arial"/>
            </a:endParaRPr>
          </a:p>
        </p:txBody>
      </p:sp>
      <p:sp>
        <p:nvSpPr>
          <p:cNvPr id="560" name=""/>
          <p:cNvSpPr/>
          <p:nvPr/>
        </p:nvSpPr>
        <p:spPr>
          <a:xfrm>
            <a:off x="533520" y="579132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a:t>
            </a:r>
            <a:r>
              <a:rPr b="0" lang="en-US" sz="1800" spc="-1" strike="noStrike">
                <a:solidFill>
                  <a:srgbClr val="ffffff"/>
                </a:solidFill>
                <a:latin typeface="Garamond"/>
              </a:rPr>
              <a:t> </a:t>
            </a:r>
            <a:r>
              <a:rPr b="0" lang="en-US" sz="2400" spc="-1" strike="noStrike">
                <a:solidFill>
                  <a:srgbClr val="ffffff"/>
                </a:solidFill>
                <a:latin typeface="Garamond"/>
              </a:rPr>
              <a:t>Section 4-1 Quiz &amp; Concept Development 5-1</a:t>
            </a:r>
            <a:endParaRPr b="0" lang="en-US" sz="2400" spc="-1" strike="noStrike">
              <a:solidFill>
                <a:srgbClr val="ffffff"/>
              </a:solidFill>
              <a:latin typeface="Arial"/>
            </a:endParaRPr>
          </a:p>
        </p:txBody>
      </p:sp>
      <p:sp>
        <p:nvSpPr>
          <p:cNvPr id="561" name=""/>
          <p:cNvSpPr/>
          <p:nvPr/>
        </p:nvSpPr>
        <p:spPr>
          <a:xfrm>
            <a:off x="380880" y="4419720"/>
            <a:ext cx="853452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1" lang="en-US" sz="2400" spc="-1" strike="noStrike">
                <a:solidFill>
                  <a:srgbClr val="ffffff"/>
                </a:solidFill>
                <a:latin typeface="Arial"/>
              </a:rPr>
              <a:t>: </a:t>
            </a:r>
            <a:r>
              <a:rPr b="1" lang="en-US" sz="2000" spc="-1" strike="noStrike">
                <a:solidFill>
                  <a:srgbClr val="ffffff"/>
                </a:solidFill>
                <a:latin typeface="Arial"/>
              </a:rPr>
              <a:t>What is acceleration of a 5kg bowling ball when a net force of 25N is applied to it?</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a16"/>
            </a:gs>
            <a:gs pos="100000">
              <a:srgbClr val="4e5d31"/>
            </a:gs>
          </a:gsLst>
          <a:lin ang="13500000"/>
        </a:gra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acceleration of a 5kg bowling ball when a net force of 25N is applied to it?</a:t>
            </a:r>
            <a:r>
              <a:rPr b="0" lang="en-US" sz="3200" spc="-1" strike="noStrike">
                <a:solidFill>
                  <a:srgbClr val="ffffff"/>
                </a:solidFill>
                <a:latin typeface="Arial"/>
              </a:rPr>
              <a:t> </a:t>
            </a:r>
            <a:br>
              <a:rPr sz="3200"/>
            </a:br>
            <a:endParaRPr b="0" lang="en-US" sz="3200" spc="-1" strike="noStrike">
              <a:solidFill>
                <a:srgbClr val="ffffcc"/>
              </a:solidFill>
              <a:latin typeface="Arial"/>
            </a:endParaRPr>
          </a:p>
        </p:txBody>
      </p:sp>
      <p:graphicFrame>
        <p:nvGraphicFramePr>
          <p:cNvPr id="563" name="TPChart"/>
          <p:cNvGraphicFramePr/>
          <p:nvPr/>
        </p:nvGraphicFramePr>
        <p:xfrm>
          <a:off x="4508640" y="1650960"/>
          <a:ext cx="4570200" cy="5141880"/>
        </p:xfrm>
        <a:graphic>
          <a:graphicData uri="http://schemas.openxmlformats.org/presentationml/2006/ole">
            <p:oleObj r:id="rId1" spid="">
              <p:embed/>
              <p:pic>
                <p:nvPicPr>
                  <p:cNvPr id="564"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565" name="PlaceHolder 2"/>
          <p:cNvSpPr>
            <a:spLocks noGrp="1"/>
          </p:cNvSpPr>
          <p:nvPr>
            <p:ph/>
          </p:nvPr>
        </p:nvSpPr>
        <p:spPr>
          <a:xfrm>
            <a:off x="457200" y="1600200"/>
            <a:ext cx="4114800" cy="4533840"/>
          </a:xfrm>
          <a:prstGeom prst="rect">
            <a:avLst/>
          </a:prstGeom>
          <a:noFill/>
          <a:ln w="0">
            <a:noFill/>
          </a:ln>
        </p:spPr>
        <p:txBody>
          <a:bodyPr lIns="90000" rIns="90000" tIns="46800" bIns="46800" anchor="t">
            <a:normAutofit/>
          </a:bodyPr>
          <a:p>
            <a:pPr marL="609480" indent="-609480">
              <a:spcBef>
                <a:spcPts val="799"/>
              </a:spcBef>
              <a:buClr>
                <a:srgbClr val="33cc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m/s</a:t>
            </a:r>
            <a:r>
              <a:rPr b="0" lang="en-US" sz="3200" spc="-1" strike="noStrike" baseline="30000">
                <a:solidFill>
                  <a:srgbClr val="ffffff"/>
                </a:solidFill>
                <a:latin typeface="Arial"/>
              </a:rPr>
              <a:t>2</a:t>
            </a:r>
            <a:endParaRPr b="0" lang="en-US" sz="3200" spc="-1" strike="noStrike">
              <a:solidFill>
                <a:srgbClr val="ffffff"/>
              </a:solidFill>
              <a:latin typeface="Arial"/>
            </a:endParaRPr>
          </a:p>
          <a:p>
            <a:pPr marL="609480" indent="-609480">
              <a:spcBef>
                <a:spcPts val="799"/>
              </a:spcBef>
              <a:buClr>
                <a:srgbClr val="33cc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N</a:t>
            </a:r>
            <a:endParaRPr b="0" lang="en-US" sz="3200" spc="-1" strike="noStrike">
              <a:solidFill>
                <a:srgbClr val="ffffff"/>
              </a:solidFill>
              <a:latin typeface="Arial"/>
            </a:endParaRPr>
          </a:p>
          <a:p>
            <a:pPr marL="609480" indent="-609480">
              <a:spcBef>
                <a:spcPts val="799"/>
              </a:spcBef>
              <a:buClr>
                <a:srgbClr val="33cc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5m/s</a:t>
            </a:r>
            <a:r>
              <a:rPr b="0" lang="en-US" sz="3200" spc="-1" strike="noStrike" baseline="30000">
                <a:solidFill>
                  <a:srgbClr val="ffffff"/>
                </a:solidFill>
                <a:latin typeface="Arial"/>
              </a:rPr>
              <a:t>2</a:t>
            </a:r>
            <a:endParaRPr b="0" lang="en-US" sz="3200" spc="-1" strike="noStrike">
              <a:solidFill>
                <a:srgbClr val="ffffff"/>
              </a:solidFill>
              <a:latin typeface="Arial"/>
            </a:endParaRPr>
          </a:p>
          <a:p>
            <a:pPr marL="609480" indent="-609480">
              <a:spcBef>
                <a:spcPts val="799"/>
              </a:spcBef>
              <a:buClr>
                <a:srgbClr val="33cc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2m/s</a:t>
            </a:r>
            <a:r>
              <a:rPr b="0" lang="en-US" sz="3200" spc="-1" strike="noStrike" baseline="30000">
                <a:solidFill>
                  <a:srgbClr val="ffffff"/>
                </a:solidFill>
                <a:latin typeface="Arial"/>
              </a:rPr>
              <a:t>2</a:t>
            </a:r>
            <a:endParaRPr b="0" lang="en-US" sz="3200" spc="-1" strike="noStrike">
              <a:solidFill>
                <a:srgbClr val="ffffff"/>
              </a:solidFill>
              <a:latin typeface="Arial"/>
            </a:endParaRPr>
          </a:p>
        </p:txBody>
      </p:sp>
      <p:grpSp>
        <p:nvGrpSpPr>
          <p:cNvPr id="566" name="ResponseCounter"/>
          <p:cNvGrpSpPr/>
          <p:nvPr/>
        </p:nvGrpSpPr>
        <p:grpSpPr>
          <a:xfrm>
            <a:off x="127080" y="5778360"/>
            <a:ext cx="952200" cy="952560"/>
            <a:chOff x="127080" y="5778360"/>
            <a:chExt cx="952200" cy="952560"/>
          </a:xfrm>
        </p:grpSpPr>
        <p:sp>
          <p:nvSpPr>
            <p:cNvPr id="567" name="RCOuter" hidden="1"/>
            <p:cNvSpPr/>
            <p:nvPr/>
          </p:nvSpPr>
          <p:spPr>
            <a:xfrm>
              <a:off x="127080" y="5778360"/>
              <a:ext cx="952200" cy="952560"/>
            </a:xfrm>
            <a:prstGeom prst="ellipse">
              <a:avLst/>
            </a:prstGeom>
            <a:gradFill rotWithShape="0">
              <a:gsLst>
                <a:gs pos="0">
                  <a:srgbClr val="8f8c00"/>
                </a:gs>
                <a:gs pos="100000">
                  <a:srgbClr val="424f29">
                    <a:alpha val="50196"/>
                  </a:srgbClr>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8" name="RCInner" hidden="1"/>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1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5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a16"/>
            </a:gs>
            <a:gs pos="100000">
              <a:srgbClr val="4e5d31"/>
            </a:gs>
          </a:gsLst>
          <a:lin ang="135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Graphing proportionality</a:t>
            </a:r>
            <a:endParaRPr b="0" lang="en-US" sz="4000" spc="-1" strike="noStrike">
              <a:solidFill>
                <a:srgbClr val="ffffcc"/>
              </a:solidFill>
              <a:latin typeface="Arial"/>
            </a:endParaRPr>
          </a:p>
        </p:txBody>
      </p:sp>
      <p:sp>
        <p:nvSpPr>
          <p:cNvPr id="570" name="PlaceHolder 2"/>
          <p:cNvSpPr>
            <a:spLocks noGrp="1"/>
          </p:cNvSpPr>
          <p:nvPr>
            <p:ph/>
          </p:nvPr>
        </p:nvSpPr>
        <p:spPr>
          <a:xfrm>
            <a:off x="457200" y="1600200"/>
            <a:ext cx="4038480" cy="4533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1" name=""/>
          <p:cNvSpPr/>
          <p:nvPr/>
        </p:nvSpPr>
        <p:spPr>
          <a:xfrm>
            <a:off x="685800" y="1600200"/>
            <a:ext cx="792468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2" name=""/>
          <p:cNvSpPr/>
          <p:nvPr/>
        </p:nvSpPr>
        <p:spPr>
          <a:xfrm>
            <a:off x="457200" y="1066680"/>
            <a:ext cx="8229600" cy="541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leration and Net Force are said to be </a:t>
            </a:r>
            <a:r>
              <a:rPr b="0" lang="en-US" sz="2800" spc="-1" strike="noStrike" u="sng">
                <a:solidFill>
                  <a:srgbClr val="ffffff"/>
                </a:solidFill>
                <a:uFillTx/>
                <a:latin typeface="Arial"/>
              </a:rPr>
              <a:t>directly proportional</a:t>
            </a:r>
            <a:r>
              <a:rPr b="0" lang="en-US" sz="2800" spc="-1" strike="noStrike">
                <a:solidFill>
                  <a:srgbClr val="ffffff"/>
                </a:solidFill>
                <a:latin typeface="Arial"/>
              </a:rPr>
              <a:t>, so when one goes up, the other goes up.</a:t>
            </a:r>
            <a:endParaRPr b="0" lang="en-US" sz="2800" spc="-1" strike="noStrike">
              <a:solidFill>
                <a:srgbClr val="ffffff"/>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 an acceleration (y axis) vs. Net Force (x axis) graph representing this relationshi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572">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57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a16"/>
            </a:gs>
            <a:gs pos="100000">
              <a:srgbClr val="4e5d31"/>
            </a:gs>
          </a:gsLst>
          <a:lin ang="135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519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Acceleration vs. Net Force </a:t>
            </a:r>
            <a:endParaRPr b="0" lang="en-US" sz="4000" spc="-1" strike="noStrike">
              <a:solidFill>
                <a:srgbClr val="ffffcc"/>
              </a:solidFill>
              <a:latin typeface="Arial"/>
            </a:endParaRPr>
          </a:p>
        </p:txBody>
      </p:sp>
      <p:sp>
        <p:nvSpPr>
          <p:cNvPr id="574" name="PlaceHolder 2"/>
          <p:cNvSpPr>
            <a:spLocks noGrp="1"/>
          </p:cNvSpPr>
          <p:nvPr>
            <p:ph/>
          </p:nvPr>
        </p:nvSpPr>
        <p:spPr>
          <a:xfrm>
            <a:off x="457200" y="1600200"/>
            <a:ext cx="4038480" cy="4533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5" name=""/>
          <p:cNvSpPr/>
          <p:nvPr/>
        </p:nvSpPr>
        <p:spPr>
          <a:xfrm>
            <a:off x="685800" y="1600200"/>
            <a:ext cx="792468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76" name=""/>
          <p:cNvGraphicFramePr/>
          <p:nvPr/>
        </p:nvGraphicFramePr>
        <p:xfrm>
          <a:off x="1523880" y="838080"/>
          <a:ext cx="6172200" cy="5175360"/>
        </p:xfrm>
        <a:graphic>
          <a:graphicData uri="http://schemas.openxmlformats.org/drawingml/2006/table">
            <a:tbl>
              <a:tblPr/>
              <a:tblGrid>
                <a:gridCol w="615960"/>
                <a:gridCol w="618840"/>
                <a:gridCol w="615960"/>
                <a:gridCol w="619200"/>
                <a:gridCol w="615960"/>
                <a:gridCol w="615960"/>
                <a:gridCol w="619200"/>
                <a:gridCol w="615960"/>
                <a:gridCol w="619200"/>
                <a:gridCol w="6159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77" name=""/>
          <p:cNvSpPr/>
          <p:nvPr/>
        </p:nvSpPr>
        <p:spPr>
          <a:xfrm>
            <a:off x="1523880" y="790560"/>
            <a:ext cx="0" cy="5257800"/>
          </a:xfrm>
          <a:prstGeom prst="line">
            <a:avLst/>
          </a:prstGeom>
          <a:ln w="88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1495440" y="6019920"/>
            <a:ext cx="6248520" cy="0"/>
          </a:xfrm>
          <a:prstGeom prst="line">
            <a:avLst/>
          </a:prstGeom>
          <a:ln w="954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457200" y="762120"/>
            <a:ext cx="533520" cy="5375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0" name=""/>
          <p:cNvSpPr/>
          <p:nvPr/>
        </p:nvSpPr>
        <p:spPr>
          <a:xfrm>
            <a:off x="4038480" y="617220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 FOR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a16"/>
            </a:gs>
            <a:gs pos="100000">
              <a:srgbClr val="4e5d31"/>
            </a:gs>
          </a:gsLst>
          <a:lin ang="135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Graphing proportionality</a:t>
            </a:r>
            <a:endParaRPr b="0" lang="en-US" sz="4000" spc="-1" strike="noStrike">
              <a:solidFill>
                <a:srgbClr val="ffffcc"/>
              </a:solidFill>
              <a:latin typeface="Arial"/>
            </a:endParaRPr>
          </a:p>
        </p:txBody>
      </p:sp>
      <p:sp>
        <p:nvSpPr>
          <p:cNvPr id="582" name="PlaceHolder 2"/>
          <p:cNvSpPr>
            <a:spLocks noGrp="1"/>
          </p:cNvSpPr>
          <p:nvPr>
            <p:ph/>
          </p:nvPr>
        </p:nvSpPr>
        <p:spPr>
          <a:xfrm>
            <a:off x="457200" y="1600200"/>
            <a:ext cx="4038480" cy="4533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3" name=""/>
          <p:cNvSpPr/>
          <p:nvPr/>
        </p:nvSpPr>
        <p:spPr>
          <a:xfrm>
            <a:off x="685800" y="1600200"/>
            <a:ext cx="792468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
          <p:cNvSpPr/>
          <p:nvPr/>
        </p:nvSpPr>
        <p:spPr>
          <a:xfrm>
            <a:off x="457200" y="1066680"/>
            <a:ext cx="8229600" cy="541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leration and mass are said to be </a:t>
            </a:r>
            <a:r>
              <a:rPr b="0" lang="en-US" sz="2800" spc="-1" strike="noStrike" u="sng">
                <a:solidFill>
                  <a:srgbClr val="ffffff"/>
                </a:solidFill>
                <a:uFillTx/>
                <a:latin typeface="Arial"/>
              </a:rPr>
              <a:t>inversely proportional,</a:t>
            </a:r>
            <a:r>
              <a:rPr b="0" lang="en-US" sz="2800" spc="-1" strike="noStrike">
                <a:solidFill>
                  <a:srgbClr val="ffffff"/>
                </a:solidFill>
                <a:latin typeface="Arial"/>
              </a:rPr>
              <a:t> so when one goes up, the other goes down.</a:t>
            </a:r>
            <a:endParaRPr b="0" lang="en-US" sz="2800" spc="-1" strike="noStrike">
              <a:solidFill>
                <a:srgbClr val="ffffff"/>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 an acceleration (y axis) vs. mass (x axis) graph representing this relationshi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584">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5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a16"/>
            </a:gs>
            <a:gs pos="100000">
              <a:srgbClr val="4e5d31"/>
            </a:gs>
          </a:gsLst>
          <a:lin ang="135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519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Acceleration vs. Mass </a:t>
            </a:r>
            <a:endParaRPr b="0" lang="en-US" sz="4000" spc="-1" strike="noStrike">
              <a:solidFill>
                <a:srgbClr val="ffffcc"/>
              </a:solidFill>
              <a:latin typeface="Arial"/>
            </a:endParaRPr>
          </a:p>
        </p:txBody>
      </p:sp>
      <p:sp>
        <p:nvSpPr>
          <p:cNvPr id="586" name="PlaceHolder 2"/>
          <p:cNvSpPr>
            <a:spLocks noGrp="1"/>
          </p:cNvSpPr>
          <p:nvPr>
            <p:ph/>
          </p:nvPr>
        </p:nvSpPr>
        <p:spPr>
          <a:xfrm>
            <a:off x="457200" y="1600200"/>
            <a:ext cx="4038480" cy="4533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7" name=""/>
          <p:cNvSpPr/>
          <p:nvPr/>
        </p:nvSpPr>
        <p:spPr>
          <a:xfrm>
            <a:off x="685800" y="1600200"/>
            <a:ext cx="792468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88" name=""/>
          <p:cNvGraphicFramePr/>
          <p:nvPr/>
        </p:nvGraphicFramePr>
        <p:xfrm>
          <a:off x="1523880" y="838080"/>
          <a:ext cx="6172200" cy="5175360"/>
        </p:xfrm>
        <a:graphic>
          <a:graphicData uri="http://schemas.openxmlformats.org/drawingml/2006/table">
            <a:tbl>
              <a:tblPr/>
              <a:tblGrid>
                <a:gridCol w="615960"/>
                <a:gridCol w="618840"/>
                <a:gridCol w="615960"/>
                <a:gridCol w="619200"/>
                <a:gridCol w="615960"/>
                <a:gridCol w="615960"/>
                <a:gridCol w="619200"/>
                <a:gridCol w="615960"/>
                <a:gridCol w="619200"/>
                <a:gridCol w="6159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89" name=""/>
          <p:cNvSpPr/>
          <p:nvPr/>
        </p:nvSpPr>
        <p:spPr>
          <a:xfrm>
            <a:off x="1523880" y="790560"/>
            <a:ext cx="0" cy="5257800"/>
          </a:xfrm>
          <a:prstGeom prst="line">
            <a:avLst/>
          </a:prstGeom>
          <a:ln w="88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1495440" y="6019920"/>
            <a:ext cx="6248520" cy="0"/>
          </a:xfrm>
          <a:prstGeom prst="line">
            <a:avLst/>
          </a:prstGeom>
          <a:ln w="954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457200" y="762120"/>
            <a:ext cx="533520" cy="5375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2" name=""/>
          <p:cNvSpPr/>
          <p:nvPr/>
        </p:nvSpPr>
        <p:spPr>
          <a:xfrm>
            <a:off x="4038480" y="617220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S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a16"/>
            </a:gs>
            <a:gs pos="100000">
              <a:srgbClr val="4e5d31"/>
            </a:gs>
          </a:gsLst>
          <a:lin ang="135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680"/>
            <a:ext cx="8229600" cy="78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et Force Problem Solving</a:t>
            </a:r>
            <a:endParaRPr b="0" lang="en-US" sz="4000" spc="-1" strike="noStrike">
              <a:solidFill>
                <a:srgbClr val="ffffcc"/>
              </a:solidFill>
              <a:latin typeface="Arial"/>
            </a:endParaRPr>
          </a:p>
        </p:txBody>
      </p:sp>
      <p:sp>
        <p:nvSpPr>
          <p:cNvPr id="594" name="PlaceHolder 2"/>
          <p:cNvSpPr>
            <a:spLocks noGrp="1"/>
          </p:cNvSpPr>
          <p:nvPr>
            <p:ph/>
          </p:nvPr>
        </p:nvSpPr>
        <p:spPr>
          <a:xfrm>
            <a:off x="457200" y="1600200"/>
            <a:ext cx="4038480" cy="4533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5" name=""/>
          <p:cNvSpPr/>
          <p:nvPr/>
        </p:nvSpPr>
        <p:spPr>
          <a:xfrm>
            <a:off x="685800" y="1600200"/>
            <a:ext cx="792468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6" name=""/>
          <p:cNvSpPr/>
          <p:nvPr/>
        </p:nvSpPr>
        <p:spPr>
          <a:xfrm>
            <a:off x="457200" y="1066680"/>
            <a:ext cx="8229600" cy="541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each problem a different net force equation is needed.</a:t>
            </a:r>
            <a:endParaRPr b="0" lang="en-US" sz="2800" spc="-1" strike="noStrike">
              <a:solidFill>
                <a:srgbClr val="ffffff"/>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create our own equations based upon the given information.</a:t>
            </a:r>
            <a:endParaRPr b="0" lang="en-US" sz="2800" spc="-1" strike="noStrike">
              <a:solidFill>
                <a:srgbClr val="ffffff"/>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equations written are different for each problem. </a:t>
            </a:r>
            <a:endParaRPr b="0" lang="en-US" sz="2800" spc="-1" strike="noStrike">
              <a:solidFill>
                <a:srgbClr val="ffffff"/>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quation written for one problem may or may not work for a different problem.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596">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596">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596">
                                            <p:txEl>
                                              <p:pRg st="2" end="2"/>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59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a16"/>
            </a:gs>
            <a:gs pos="100000">
              <a:srgbClr val="4e5d31"/>
            </a:gs>
          </a:gsLst>
          <a:lin ang="13500000"/>
        </a:gra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680"/>
            <a:ext cx="8229600" cy="78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et Force Problem Solving</a:t>
            </a:r>
            <a:endParaRPr b="0" lang="en-US" sz="4000" spc="-1" strike="noStrike">
              <a:solidFill>
                <a:srgbClr val="ffffcc"/>
              </a:solidFill>
              <a:latin typeface="Arial"/>
            </a:endParaRPr>
          </a:p>
        </p:txBody>
      </p:sp>
      <p:sp>
        <p:nvSpPr>
          <p:cNvPr id="598" name="PlaceHolder 2"/>
          <p:cNvSpPr>
            <a:spLocks noGrp="1"/>
          </p:cNvSpPr>
          <p:nvPr>
            <p:ph/>
          </p:nvPr>
        </p:nvSpPr>
        <p:spPr>
          <a:xfrm>
            <a:off x="457200" y="1600200"/>
            <a:ext cx="4038480" cy="4533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9" name=""/>
          <p:cNvSpPr/>
          <p:nvPr/>
        </p:nvSpPr>
        <p:spPr>
          <a:xfrm>
            <a:off x="685800" y="1600200"/>
            <a:ext cx="792468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
          <p:cNvSpPr/>
          <p:nvPr/>
        </p:nvSpPr>
        <p:spPr>
          <a:xfrm>
            <a:off x="533520" y="1143000"/>
            <a:ext cx="8229600" cy="5410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sliding a 20kg crate of physics books across a tile floor. You apply a force of 50N and the force of friction acting on the crate is 30N. How much is the crate accelerating? </a:t>
            </a:r>
            <a:endParaRPr b="0" lang="en-US" sz="2800" spc="-1" strike="noStrike">
              <a:solidFill>
                <a:srgbClr val="ffffff"/>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step (after writing your givens) is to draw a picture of the situation with all the forces acting on the object.</a:t>
            </a:r>
            <a:endParaRPr b="0" lang="en-US" sz="2800" spc="-1" strike="noStrike">
              <a:solidFill>
                <a:srgbClr val="ffffff"/>
              </a:solidFill>
              <a:latin typeface="Arial"/>
            </a:endParaRPr>
          </a:p>
        </p:txBody>
      </p:sp>
      <p:sp>
        <p:nvSpPr>
          <p:cNvPr id="601" name=""/>
          <p:cNvSpPr/>
          <p:nvPr/>
        </p:nvSpPr>
        <p:spPr>
          <a:xfrm>
            <a:off x="5486400" y="5029200"/>
            <a:ext cx="762120" cy="533520"/>
          </a:xfrm>
          <a:prstGeom prst="rect">
            <a:avLst/>
          </a:prstGeom>
          <a:solidFill>
            <a:srgbClr val="8f8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2" name=""/>
          <p:cNvSpPr/>
          <p:nvPr/>
        </p:nvSpPr>
        <p:spPr>
          <a:xfrm>
            <a:off x="3124080" y="5562720"/>
            <a:ext cx="5867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1371600" y="5062680"/>
            <a:ext cx="1143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1447920" y="457200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600">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600">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603"/>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60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602"/>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6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a16"/>
            </a:gs>
            <a:gs pos="100000">
              <a:srgbClr val="4e5d31"/>
            </a:gs>
          </a:gsLst>
          <a:lin ang="13500000"/>
        </a:gra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et Force Problem Solving</a:t>
            </a:r>
            <a:endParaRPr b="0" lang="en-US" sz="4000" spc="-1" strike="noStrike">
              <a:solidFill>
                <a:srgbClr val="ffffcc"/>
              </a:solidFill>
              <a:latin typeface="Arial"/>
            </a:endParaRPr>
          </a:p>
        </p:txBody>
      </p:sp>
      <p:sp>
        <p:nvSpPr>
          <p:cNvPr id="606" name="PlaceHolder 2"/>
          <p:cNvSpPr>
            <a:spLocks noGrp="1"/>
          </p:cNvSpPr>
          <p:nvPr>
            <p:ph/>
          </p:nvPr>
        </p:nvSpPr>
        <p:spPr>
          <a:xfrm>
            <a:off x="457200" y="1600200"/>
            <a:ext cx="4038480" cy="4533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mc:AlternateContent>
        <mc:Choice xmlns:a14="http://schemas.microsoft.com/office/drawing/2010/main" Requires="a14">
          <p:sp>
            <p:nvSpPr>
              <p:cNvPr id="607" name=""/>
              <p:cNvSpPr txBox="1"/>
              <p:nvPr/>
            </p:nvSpPr>
            <p:spPr>
              <a:xfrm>
                <a:off x="3657600" y="3505320"/>
                <a:ext cx="2286000" cy="637920"/>
              </a:xfrm>
              <a:prstGeom prst="rect">
                <a:avLst/>
              </a:prstGeom>
            </p:spPr>
            <p:txBody>
              <a:bodyPr/>
              <a:p>
                <a14:m>
                  <m:oMath xmlns:m="http://schemas.openxmlformats.org/officeDocument/2006/math">
                    <m:sSub>
                      <m:e>
                        <m:r>
                          <m:t xml:space="preserve">F</m:t>
                        </m:r>
                      </m:e>
                      <m:sub>
                        <m:r>
                          <m:rPr>
                            <m:lit/>
                            <m:nor/>
                          </m:rPr>
                          <m:t xml:space="preserve">net</m:t>
                        </m:r>
                      </m:sub>
                    </m:sSub>
                    <m:r>
                      <m:t xml:space="preserve">=</m:t>
                    </m:r>
                    <m:sSub>
                      <m:e>
                        <m:r>
                          <m:t xml:space="preserve">F</m:t>
                        </m:r>
                      </m:e>
                      <m:sub>
                        <m:r>
                          <m:t xml:space="preserve">a</m:t>
                        </m:r>
                      </m:sub>
                    </m:sSub>
                    <m:r>
                      <m:t xml:space="preserve">−</m:t>
                    </m:r>
                    <m:sSub>
                      <m:e>
                        <m:r>
                          <m:t xml:space="preserve">F</m:t>
                        </m:r>
                      </m:e>
                      <m:sub>
                        <m:r>
                          <m:t xml:space="preserve">f</m:t>
                        </m:r>
                      </m:sub>
                    </m:sSub>
                  </m:oMath>
                </a14:m>
              </a:p>
            </p:txBody>
          </p:sp>
        </mc:Choice>
        <mc:Fallback/>
      </mc:AlternateContent>
      <p:sp>
        <p:nvSpPr>
          <p:cNvPr id="608" name=""/>
          <p:cNvSpPr/>
          <p:nvPr/>
        </p:nvSpPr>
        <p:spPr>
          <a:xfrm>
            <a:off x="685800" y="1600200"/>
            <a:ext cx="792468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9" name=""/>
          <p:cNvSpPr/>
          <p:nvPr/>
        </p:nvSpPr>
        <p:spPr>
          <a:xfrm>
            <a:off x="380880" y="1143000"/>
            <a:ext cx="8534520" cy="403848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xt step is to remove the forces that do not affect the problem.</a:t>
            </a:r>
            <a:endParaRPr b="0" lang="en-US" sz="2800" spc="-1" strike="noStrike">
              <a:solidFill>
                <a:srgbClr val="ffffff"/>
              </a:solidFill>
              <a:latin typeface="Arial"/>
            </a:endParaRPr>
          </a:p>
          <a:p>
            <a:pPr marL="274320" indent="-27432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74320" indent="-27432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xt, we write an equation to solve for the net force acting on the object.</a:t>
            </a:r>
            <a:endParaRPr b="0" lang="en-US" sz="2800" spc="-1" strike="noStrike">
              <a:solidFill>
                <a:srgbClr val="ffffff"/>
              </a:solidFill>
              <a:latin typeface="Arial"/>
            </a:endParaRPr>
          </a:p>
          <a:p>
            <a:pPr marL="274320" indent="-27432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his case…</a:t>
            </a:r>
            <a:endParaRPr b="0" lang="en-US" sz="2800" spc="-1" strike="noStrike">
              <a:solidFill>
                <a:srgbClr val="ffffff"/>
              </a:solidFill>
              <a:latin typeface="Arial"/>
            </a:endParaRPr>
          </a:p>
          <a:p>
            <a:pPr marL="274320" indent="-27432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use substitution to replace unknown variables.</a:t>
            </a:r>
            <a:endParaRPr b="0" lang="en-US" sz="2800" spc="-1" strike="noStrike">
              <a:solidFill>
                <a:srgbClr val="ffffff"/>
              </a:solidFill>
              <a:latin typeface="Arial"/>
            </a:endParaRPr>
          </a:p>
          <a:p>
            <a:pPr marL="274320" indent="-27432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74320" indent="-274320">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74320" indent="-274320">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swer: The acceleration of the crate is 1m/s</a:t>
            </a:r>
            <a:r>
              <a:rPr b="0" lang="en-US" sz="2800" spc="-1" strike="noStrike" baseline="30000">
                <a:solidFill>
                  <a:srgbClr val="ffffff"/>
                </a:solidFill>
                <a:latin typeface="Arial"/>
              </a:rPr>
              <a:t>2</a:t>
            </a:r>
            <a:endParaRPr b="0" lang="en-US" sz="2800" spc="-1" strike="noStrike">
              <a:solidFill>
                <a:srgbClr val="ffffff"/>
              </a:solidFill>
              <a:latin typeface="Arial"/>
            </a:endParaRPr>
          </a:p>
        </p:txBody>
      </p:sp>
      <p:sp>
        <p:nvSpPr>
          <p:cNvPr id="610" name=""/>
          <p:cNvSpPr/>
          <p:nvPr/>
        </p:nvSpPr>
        <p:spPr>
          <a:xfrm>
            <a:off x="5029200" y="1905120"/>
            <a:ext cx="762120" cy="533160"/>
          </a:xfrm>
          <a:prstGeom prst="rect">
            <a:avLst/>
          </a:prstGeom>
          <a:solidFill>
            <a:srgbClr val="8f8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1" name=""/>
          <p:cNvSpPr/>
          <p:nvPr/>
        </p:nvSpPr>
        <p:spPr>
          <a:xfrm>
            <a:off x="2666880" y="2438280"/>
            <a:ext cx="5867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flipH="1">
            <a:off x="4419360" y="213372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5410080" y="213372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6019920" y="1828800"/>
            <a:ext cx="380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f</a:t>
            </a:r>
            <a:endParaRPr b="0" lang="en-US" sz="1800" spc="-1" strike="noStrike">
              <a:solidFill>
                <a:srgbClr val="ffffff"/>
              </a:solidFill>
              <a:latin typeface="Arial"/>
            </a:endParaRPr>
          </a:p>
        </p:txBody>
      </p:sp>
      <p:sp>
        <p:nvSpPr>
          <p:cNvPr id="615" name=""/>
          <p:cNvSpPr/>
          <p:nvPr/>
        </p:nvSpPr>
        <p:spPr>
          <a:xfrm>
            <a:off x="4191120" y="1752480"/>
            <a:ext cx="533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a</a:t>
            </a:r>
            <a:endParaRPr b="0" lang="en-US" sz="1800" spc="-1" strike="noStrike">
              <a:solidFill>
                <a:srgbClr val="ffffff"/>
              </a:solidFill>
              <a:latin typeface="Arial"/>
            </a:endParaRPr>
          </a:p>
        </p:txBody>
      </p:sp>
      <mc:AlternateContent>
        <mc:Choice xmlns:a14="http://schemas.microsoft.com/office/drawing/2010/main" Requires="a14">
          <p:sp>
            <p:nvSpPr>
              <p:cNvPr id="616" name=""/>
              <p:cNvSpPr txBox="1"/>
              <p:nvPr/>
            </p:nvSpPr>
            <p:spPr>
              <a:xfrm>
                <a:off x="2590920" y="4495680"/>
                <a:ext cx="1371600" cy="514440"/>
              </a:xfrm>
              <a:prstGeom prst="rect">
                <a:avLst/>
              </a:prstGeom>
            </p:spPr>
            <p:txBody>
              <a:bodyPr/>
              <a:p>
                <a14:m>
                  <m:oMath xmlns:m="http://schemas.openxmlformats.org/officeDocument/2006/math">
                    <m:sSub>
                      <m:e>
                        <m:r>
                          <m:t xml:space="preserve">F</m:t>
                        </m:r>
                      </m:e>
                      <m:sub>
                        <m:r>
                          <m:rPr>
                            <m:lit/>
                            <m:nor/>
                          </m:rPr>
                          <m:t xml:space="preserve">net</m:t>
                        </m:r>
                      </m:sub>
                    </m:sSub>
                    <m:r>
                      <m:t xml:space="preserve">=</m:t>
                    </m:r>
                    <m:r>
                      <m:rPr>
                        <m:lit/>
                        <m:nor/>
                      </m:rPr>
                      <m:t xml:space="preserve">ma</m:t>
                    </m:r>
                  </m:oMath>
                </a14:m>
              </a:p>
            </p:txBody>
          </p:sp>
        </mc:Choice>
        <mc:Fallback/>
      </mc:AlternateContent>
      <mc:AlternateContent>
        <mc:Choice xmlns:a14="http://schemas.microsoft.com/office/drawing/2010/main" Requires="a14">
          <p:sp>
            <p:nvSpPr>
              <p:cNvPr id="617" name=""/>
              <p:cNvSpPr txBox="1"/>
              <p:nvPr/>
            </p:nvSpPr>
            <p:spPr>
              <a:xfrm>
                <a:off x="914400" y="5257800"/>
                <a:ext cx="2476440" cy="723960"/>
              </a:xfrm>
              <a:prstGeom prst="rect">
                <a:avLst/>
              </a:prstGeom>
            </p:spPr>
            <p:txBody>
              <a:bodyPr/>
              <a:p>
                <a14:m>
                  <m:oMath xmlns:m="http://schemas.openxmlformats.org/officeDocument/2006/math">
                    <m:r>
                      <m:rPr>
                        <m:lit/>
                        <m:nor/>
                      </m:rPr>
                      <m:t xml:space="preserve">ma</m:t>
                    </m:r>
                    <m:r>
                      <m:t xml:space="preserve">=</m:t>
                    </m:r>
                    <m:sSub>
                      <m:e>
                        <m:r>
                          <m:t xml:space="preserve">F</m:t>
                        </m:r>
                      </m:e>
                      <m:sub>
                        <m:r>
                          <m:t xml:space="preserve">a</m:t>
                        </m:r>
                      </m:sub>
                    </m:sSub>
                    <m:r>
                      <m:t xml:space="preserve">−</m:t>
                    </m:r>
                    <m:sSub>
                      <m:e>
                        <m:r>
                          <m:t xml:space="preserve">F</m:t>
                        </m:r>
                      </m:e>
                      <m:sub>
                        <m:r>
                          <m:t xml:space="preserve">f</m:t>
                        </m:r>
                      </m:sub>
                    </m:sSub>
                  </m:oMath>
                </a14:m>
              </a:p>
            </p:txBody>
          </p:sp>
        </mc:Choice>
        <mc:Fallback/>
      </mc:AlternateContent>
      <p:sp>
        <p:nvSpPr>
          <p:cNvPr id="618" name=""/>
          <p:cNvSpPr/>
          <p:nvPr/>
        </p:nvSpPr>
        <p:spPr>
          <a:xfrm>
            <a:off x="4038480" y="533412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a:t>
            </a:r>
            <a:endParaRPr b="0" lang="en-US" sz="2000" spc="-1" strike="noStrike">
              <a:solidFill>
                <a:srgbClr val="ffffff"/>
              </a:solidFill>
              <a:latin typeface="Arial"/>
            </a:endParaRPr>
          </a:p>
        </p:txBody>
      </p:sp>
      <mc:AlternateContent>
        <mc:Choice xmlns:a14="http://schemas.microsoft.com/office/drawing/2010/main" Requires="a14">
          <p:sp>
            <p:nvSpPr>
              <p:cNvPr id="619" name=""/>
              <p:cNvSpPr txBox="1"/>
              <p:nvPr/>
            </p:nvSpPr>
            <p:spPr>
              <a:xfrm>
                <a:off x="5334120" y="4724280"/>
                <a:ext cx="2286000" cy="1257480"/>
              </a:xfrm>
              <a:prstGeom prst="rect">
                <a:avLst/>
              </a:prstGeom>
            </p:spPr>
            <p:txBody>
              <a:bodyPr/>
              <a:p>
                <a14:m>
                  <m:oMath xmlns:m="http://schemas.openxmlformats.org/officeDocument/2006/math">
                    <m:r>
                      <m:t xml:space="preserve">a</m:t>
                    </m:r>
                    <m:r>
                      <m:t xml:space="preserve">=</m:t>
                    </m:r>
                    <m:f>
                      <m:num>
                        <m:sSub>
                          <m:e>
                            <m:r>
                              <m:t xml:space="preserve">F</m:t>
                            </m:r>
                          </m:e>
                          <m:sub>
                            <m:r>
                              <m:t xml:space="preserve">a</m:t>
                            </m:r>
                          </m:sub>
                        </m:sSub>
                        <m:r>
                          <m:t xml:space="preserve">−</m:t>
                        </m:r>
                        <m:sSub>
                          <m:e>
                            <m:r>
                              <m:t xml:space="preserve">F</m:t>
                            </m:r>
                          </m:e>
                          <m:sub>
                            <m:r>
                              <m:t xml:space="preserve">f</m:t>
                            </m:r>
                          </m:sub>
                        </m:sSub>
                      </m:num>
                      <m:den>
                        <m:r>
                          <m:t xml:space="preserve">m</m:t>
                        </m:r>
                      </m:den>
                    </m:f>
                  </m:oMath>
                </a14:m>
              </a:p>
            </p:txBody>
          </p:sp>
        </mc:Choice>
        <mc:Fallback/>
      </mc:AlternateContent>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609">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615"/>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614"/>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613"/>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612"/>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610"/>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611"/>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609">
                                            <p:txEl>
                                              <p:pRg st="2" end="2"/>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609">
                                            <p:txEl>
                                              <p:pRg st="3" end="3"/>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607"/>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609">
                                            <p:txEl>
                                              <p:pRg st="4" end="4"/>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616"/>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617"/>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619"/>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60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d17"/>
            </a:gs>
            <a:gs pos="100000">
              <a:srgbClr val="4e5d31"/>
            </a:gs>
          </a:gsLst>
          <a:lin ang="135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1066680" y="380880"/>
            <a:ext cx="6858000" cy="457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a:rPr>
              <a:t>Newton Video #2</a:t>
            </a:r>
            <a:endParaRPr b="0" lang="en-US" sz="4800" spc="-1" strike="noStrike">
              <a:solidFill>
                <a:srgbClr val="ffffcc"/>
              </a:solidFill>
              <a:latin typeface="Arial"/>
            </a:endParaRPr>
          </a:p>
        </p:txBody>
      </p:sp>
      <p:sp>
        <p:nvSpPr>
          <p:cNvPr id="518" name="PlaceHolder 2"/>
          <p:cNvSpPr>
            <a:spLocks noGrp="1"/>
          </p:cNvSpPr>
          <p:nvPr>
            <p:ph type="subTitle"/>
          </p:nvPr>
        </p:nvSpPr>
        <p:spPr>
          <a:xfrm>
            <a:off x="304560" y="990720"/>
            <a:ext cx="8381880" cy="76176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swer the following questions on a separate sheet of paper and turn in by the end of the period.</a:t>
            </a:r>
            <a:endParaRPr b="0" lang="en-US" sz="2400" spc="-1" strike="noStrike">
              <a:solidFill>
                <a:srgbClr val="ffffff"/>
              </a:solidFill>
              <a:latin typeface="Arial"/>
            </a:endParaRPr>
          </a:p>
        </p:txBody>
      </p:sp>
      <p:sp>
        <p:nvSpPr>
          <p:cNvPr id="519" name=""/>
          <p:cNvSpPr/>
          <p:nvPr/>
        </p:nvSpPr>
        <p:spPr>
          <a:xfrm>
            <a:off x="457200" y="1752480"/>
            <a:ext cx="8381880" cy="4672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every action there is an ...</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es a stick of dynamite contain force?</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wo teams playing tug of war each pull on opposite sides of a rope with a force of 400N. What does the scale in the middle of the rope read?</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e move by _____________ forces.</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ow can a sink make you weigh more or less?</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can we say about the force acting on a bullet compared to the reaction force acting on the gun?</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makes a rocket move in the vacuum of space?</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y can’t you hit a piece of paper with 50lbs of force?</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is the horse’s argument for not pulling the cart to market?</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y is the horse’s argument incorrec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a16"/>
            </a:gs>
            <a:gs pos="100000">
              <a:srgbClr val="4e5d31"/>
            </a:gs>
          </a:gsLst>
          <a:lin ang="13500000"/>
        </a:gra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680"/>
            <a:ext cx="8229600" cy="78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et Force Practice Problems</a:t>
            </a:r>
            <a:endParaRPr b="0" lang="en-US" sz="4000" spc="-1" strike="noStrike">
              <a:solidFill>
                <a:srgbClr val="ffffcc"/>
              </a:solidFill>
              <a:latin typeface="Arial"/>
            </a:endParaRPr>
          </a:p>
        </p:txBody>
      </p:sp>
      <p:sp>
        <p:nvSpPr>
          <p:cNvPr id="621" name="PlaceHolder 2"/>
          <p:cNvSpPr>
            <a:spLocks noGrp="1"/>
          </p:cNvSpPr>
          <p:nvPr>
            <p:ph/>
          </p:nvPr>
        </p:nvSpPr>
        <p:spPr>
          <a:xfrm>
            <a:off x="457200" y="1600200"/>
            <a:ext cx="4038480" cy="4533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2" name=""/>
          <p:cNvSpPr/>
          <p:nvPr/>
        </p:nvSpPr>
        <p:spPr>
          <a:xfrm>
            <a:off x="685800" y="1600200"/>
            <a:ext cx="792468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3" name=""/>
          <p:cNvSpPr/>
          <p:nvPr/>
        </p:nvSpPr>
        <p:spPr>
          <a:xfrm>
            <a:off x="457200" y="1066680"/>
            <a:ext cx="8229600" cy="541044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00"/>
              </a:spcBef>
              <a:buClr>
                <a:srgbClr val="33cc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taking your new pony out in the snow to teach her how to pull a sled. You do not want to over work her so you need to know how much friction the snow will apply to the sled. You put your 50kg little sister on the sled first and find that the pony can accelerate the sled at a rate of 2m/s</a:t>
            </a:r>
            <a:r>
              <a:rPr b="0" lang="en-US" sz="2800" spc="-1" strike="noStrike" baseline="30000">
                <a:solidFill>
                  <a:srgbClr val="ffffff"/>
                </a:solidFill>
                <a:latin typeface="Arial"/>
              </a:rPr>
              <a:t>2</a:t>
            </a:r>
            <a:r>
              <a:rPr b="0" lang="en-US" sz="2800" spc="-1" strike="noStrike">
                <a:solidFill>
                  <a:srgbClr val="ffffff"/>
                </a:solidFill>
                <a:latin typeface="Arial"/>
              </a:rPr>
              <a:t> when she pulls with a force of 300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62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a16"/>
            </a:gs>
            <a:gs pos="100000">
              <a:srgbClr val="4e5d31"/>
            </a:gs>
          </a:gsLst>
          <a:lin ang="13500000"/>
        </a:gra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680"/>
            <a:ext cx="8229600" cy="78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et Force Practice Problems</a:t>
            </a:r>
            <a:endParaRPr b="0" lang="en-US" sz="4000" spc="-1" strike="noStrike">
              <a:solidFill>
                <a:srgbClr val="ffffcc"/>
              </a:solidFill>
              <a:latin typeface="Arial"/>
            </a:endParaRPr>
          </a:p>
        </p:txBody>
      </p:sp>
      <p:sp>
        <p:nvSpPr>
          <p:cNvPr id="625" name="PlaceHolder 2"/>
          <p:cNvSpPr>
            <a:spLocks noGrp="1"/>
          </p:cNvSpPr>
          <p:nvPr>
            <p:ph/>
          </p:nvPr>
        </p:nvSpPr>
        <p:spPr>
          <a:xfrm>
            <a:off x="457200" y="1600200"/>
            <a:ext cx="4038480" cy="4533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6" name=""/>
          <p:cNvSpPr/>
          <p:nvPr/>
        </p:nvSpPr>
        <p:spPr>
          <a:xfrm>
            <a:off x="685800" y="1600200"/>
            <a:ext cx="792468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7" name=""/>
          <p:cNvSpPr/>
          <p:nvPr/>
        </p:nvSpPr>
        <p:spPr>
          <a:xfrm>
            <a:off x="457200" y="1066680"/>
            <a:ext cx="8229600" cy="541044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en-US" sz="2800" spc="-1" strike="noStrike">
                <a:solidFill>
                  <a:srgbClr val="ffffff"/>
                </a:solidFill>
                <a:latin typeface="Arial"/>
              </a:rPr>
              <a:t>	</a:t>
            </a:r>
            <a:r>
              <a:rPr b="0" lang="en-US" sz="2800" spc="-1" strike="noStrike">
                <a:solidFill>
                  <a:srgbClr val="ffffff"/>
                </a:solidFill>
                <a:latin typeface="Arial"/>
              </a:rPr>
              <a:t>You go sky diving for the first time ever! You accelerate towards the ground as you are in free fall, but then after your parachute opens you feel like you’re floating as you fall at a constant speed towards the ground. Your tension gauge tells you that the air resistance on the parachute is pulling up on you with a force of 850N. What is your approximate mas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6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a16"/>
            </a:gs>
            <a:gs pos="100000">
              <a:srgbClr val="4e5d31"/>
            </a:gs>
          </a:gsLst>
          <a:lin ang="135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680"/>
            <a:ext cx="8229600" cy="78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Bonus</a:t>
            </a:r>
            <a:endParaRPr b="0" lang="en-US" sz="4000" spc="-1" strike="noStrike">
              <a:solidFill>
                <a:srgbClr val="ffffcc"/>
              </a:solidFill>
              <a:latin typeface="Arial"/>
            </a:endParaRPr>
          </a:p>
        </p:txBody>
      </p:sp>
      <p:sp>
        <p:nvSpPr>
          <p:cNvPr id="629" name="PlaceHolder 2"/>
          <p:cNvSpPr>
            <a:spLocks noGrp="1"/>
          </p:cNvSpPr>
          <p:nvPr>
            <p:ph/>
          </p:nvPr>
        </p:nvSpPr>
        <p:spPr>
          <a:xfrm>
            <a:off x="457200" y="1600200"/>
            <a:ext cx="4038480" cy="4533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0" name=""/>
          <p:cNvSpPr/>
          <p:nvPr/>
        </p:nvSpPr>
        <p:spPr>
          <a:xfrm>
            <a:off x="685800" y="1600200"/>
            <a:ext cx="792468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1" name=""/>
          <p:cNvSpPr/>
          <p:nvPr/>
        </p:nvSpPr>
        <p:spPr>
          <a:xfrm>
            <a:off x="457200" y="1066680"/>
            <a:ext cx="8229600" cy="541044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en-US" sz="2800" spc="-1" strike="noStrike">
                <a:solidFill>
                  <a:srgbClr val="ffffff"/>
                </a:solidFill>
                <a:latin typeface="Arial"/>
              </a:rPr>
              <a:t>	</a:t>
            </a:r>
            <a:r>
              <a:rPr b="0" lang="en-US" sz="2800" spc="-1" strike="noStrike">
                <a:solidFill>
                  <a:srgbClr val="ffffff"/>
                </a:solidFill>
                <a:latin typeface="Arial"/>
              </a:rPr>
              <a:t>A rocket is launched with a constant thrust of 25000N and has an upward acceleration of 2m/s</a:t>
            </a:r>
            <a:r>
              <a:rPr b="0" lang="en-US" sz="2800" spc="-1" strike="noStrike" baseline="30000">
                <a:solidFill>
                  <a:srgbClr val="ffffff"/>
                </a:solidFill>
                <a:latin typeface="Arial"/>
              </a:rPr>
              <a:t>2</a:t>
            </a:r>
            <a:r>
              <a:rPr b="0" lang="en-US" sz="2800" spc="-1" strike="noStrike">
                <a:solidFill>
                  <a:srgbClr val="ffffff"/>
                </a:solidFill>
                <a:latin typeface="Arial"/>
              </a:rPr>
              <a:t>. What is the mass of the rock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63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a16"/>
            </a:gs>
            <a:gs pos="100000">
              <a:srgbClr val="4e5d31"/>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oject</a:t>
            </a:r>
            <a:endParaRPr b="0" lang="en-US" sz="4400" spc="-1" strike="noStrike">
              <a:solidFill>
                <a:srgbClr val="ffffcc"/>
              </a:solidFill>
              <a:latin typeface="Arial"/>
            </a:endParaRPr>
          </a:p>
        </p:txBody>
      </p:sp>
      <p:sp>
        <p:nvSpPr>
          <p:cNvPr id="52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serve a bowling ball being swept around with a broom.</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able to discuss and describe your observations to the class.</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able to explain what you observed in terms of velocity, acceleration, mass, inertia, and net for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d17"/>
            </a:gs>
            <a:gs pos="100000">
              <a:srgbClr val="4e5d31"/>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Lesson #27</a:t>
            </a:r>
            <a:br>
              <a:rPr sz="2400"/>
            </a:br>
            <a:r>
              <a:rPr b="1" lang="en-US" sz="2400" spc="-1" strike="noStrike">
                <a:solidFill>
                  <a:srgbClr val="ffffcc"/>
                </a:solidFill>
                <a:latin typeface="Arial"/>
              </a:rPr>
              <a:t>Topic: </a:t>
            </a:r>
            <a:r>
              <a:rPr b="1" lang="en-US" sz="2400" spc="-1" strike="noStrike">
                <a:solidFill>
                  <a:srgbClr val="ffffcc"/>
                </a:solidFill>
                <a:latin typeface="Arial"/>
              </a:rPr>
              <a:t>Newton’s Second Law</a:t>
            </a:r>
            <a:endParaRPr b="0" lang="en-US" sz="2400" spc="-1" strike="noStrike">
              <a:solidFill>
                <a:srgbClr val="ffffcc"/>
              </a:solidFill>
              <a:latin typeface="Arial"/>
            </a:endParaRPr>
          </a:p>
        </p:txBody>
      </p:sp>
      <p:sp>
        <p:nvSpPr>
          <p:cNvPr id="523" name="PlaceHolder 2"/>
          <p:cNvSpPr>
            <a:spLocks noGrp="1"/>
          </p:cNvSpPr>
          <p:nvPr>
            <p:ph type="subTitle"/>
          </p:nvPr>
        </p:nvSpPr>
        <p:spPr>
          <a:xfrm>
            <a:off x="228600" y="1218960"/>
            <a:ext cx="8763120" cy="3352680"/>
          </a:xfrm>
          <a:prstGeom prst="rect">
            <a:avLst/>
          </a:prstGeom>
          <a:noFill/>
          <a:ln w="0">
            <a:noFill/>
          </a:ln>
        </p:spPr>
        <p:txBody>
          <a:bodyPr lIns="90000" rIns="90000" tIns="46800" bIns="46800" anchor="t">
            <a:noAutofit/>
          </a:bodyPr>
          <a:p>
            <a:pPr marL="68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 </a:t>
            </a:r>
            <a:r>
              <a:rPr b="0" lang="en-US" sz="2000" spc="-1" strike="noStrike">
                <a:solidFill>
                  <a:srgbClr val="ffffff"/>
                </a:solidFill>
                <a:latin typeface="Arial"/>
              </a:rPr>
              <a:t>(After this class I will be able to)</a:t>
            </a:r>
            <a:endParaRPr b="0" lang="en-US" sz="2000" spc="-1" strike="noStrike">
              <a:solidFill>
                <a:srgbClr val="ffffff"/>
              </a:solidFill>
              <a:latin typeface="Arial"/>
            </a:endParaRPr>
          </a:p>
          <a:p>
            <a:pPr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5800" indent="-685800">
              <a:spcBef>
                <a:spcPts val="700"/>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how an object’s mass and the net force acting on it relates to its acceleration.</a:t>
            </a:r>
            <a:endParaRPr b="0" lang="en-US" sz="2800" spc="-1" strike="noStrike">
              <a:solidFill>
                <a:srgbClr val="ffffff"/>
              </a:solidFill>
              <a:latin typeface="Arial"/>
            </a:endParaRPr>
          </a:p>
          <a:p>
            <a:pPr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4"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9/06</a:t>
            </a:r>
            <a:endParaRPr b="0" lang="en-US" sz="1800" spc="-1" strike="noStrike">
              <a:solidFill>
                <a:srgbClr val="ffffff"/>
              </a:solidFill>
              <a:latin typeface="Arial"/>
            </a:endParaRPr>
          </a:p>
        </p:txBody>
      </p:sp>
      <p:sp>
        <p:nvSpPr>
          <p:cNvPr id="525" name=""/>
          <p:cNvSpPr/>
          <p:nvPr/>
        </p:nvSpPr>
        <p:spPr>
          <a:xfrm>
            <a:off x="304920" y="495288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a:t>
            </a:r>
            <a:r>
              <a:rPr b="0" lang="en-US" sz="2000" spc="-1" strike="noStrike">
                <a:solidFill>
                  <a:srgbClr val="ffffff"/>
                </a:solidFill>
                <a:latin typeface="Tahoma"/>
              </a:rPr>
              <a:t>Transparency 4-2 Due tomorrow!</a:t>
            </a:r>
            <a:endParaRPr b="0" lang="en-US" sz="2000" spc="-1" strike="noStrike">
              <a:solidFill>
                <a:srgbClr val="ffffff"/>
              </a:solidFill>
              <a:latin typeface="Arial"/>
            </a:endParaRPr>
          </a:p>
        </p:txBody>
      </p:sp>
      <p:sp>
        <p:nvSpPr>
          <p:cNvPr id="526" name=""/>
          <p:cNvSpPr/>
          <p:nvPr/>
        </p:nvSpPr>
        <p:spPr>
          <a:xfrm>
            <a:off x="304920" y="3886200"/>
            <a:ext cx="8534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1" lang="en-US" sz="2400" spc="-1" strike="noStrike">
                <a:solidFill>
                  <a:srgbClr val="ffffff"/>
                </a:solidFill>
                <a:latin typeface="Arial"/>
              </a:rPr>
              <a:t>: </a:t>
            </a:r>
            <a:r>
              <a:rPr b="1" lang="en-US" sz="1800" spc="-1" strike="noStrike">
                <a:solidFill>
                  <a:srgbClr val="ffffff"/>
                </a:solidFill>
                <a:latin typeface="Arial"/>
              </a:rPr>
              <a:t>Is it harder to accelerate a bowling ball or a tennis ball? Why?</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a16"/>
            </a:gs>
            <a:gs pos="100000">
              <a:srgbClr val="4e5d31"/>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68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ewton’s Second Law</a:t>
            </a:r>
            <a:endParaRPr b="0" lang="en-US" sz="4000" spc="-1" strike="noStrike">
              <a:solidFill>
                <a:srgbClr val="ffffcc"/>
              </a:solidFill>
              <a:latin typeface="Arial"/>
            </a:endParaRPr>
          </a:p>
        </p:txBody>
      </p:sp>
      <p:sp>
        <p:nvSpPr>
          <p:cNvPr id="528" name="PlaceHolder 2"/>
          <p:cNvSpPr>
            <a:spLocks noGrp="1"/>
          </p:cNvSpPr>
          <p:nvPr>
            <p:ph/>
          </p:nvPr>
        </p:nvSpPr>
        <p:spPr>
          <a:xfrm>
            <a:off x="457200" y="1066680"/>
            <a:ext cx="8229600" cy="55627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on-zero net force acting on an object will cause that object to accelerate.</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irection of the acceleration will always be the same as the direction of the net force.</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re net force applied to an object, the more it will want to accelerate.</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re inertia (mass) an object has, the more it will resist accelerat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a16"/>
            </a:gs>
            <a:gs pos="100000">
              <a:srgbClr val="4e5d31"/>
            </a:gs>
          </a:gsLst>
          <a:lin ang="135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ewton’s Second Law</a:t>
            </a:r>
            <a:endParaRPr b="0" lang="en-US" sz="4000" spc="-1" strike="noStrike">
              <a:solidFill>
                <a:srgbClr val="ffffcc"/>
              </a:solidFill>
              <a:latin typeface="Arial"/>
            </a:endParaRPr>
          </a:p>
        </p:txBody>
      </p:sp>
      <p:sp>
        <p:nvSpPr>
          <p:cNvPr id="530" name="PlaceHolder 2"/>
          <p:cNvSpPr>
            <a:spLocks noGrp="1"/>
          </p:cNvSpPr>
          <p:nvPr>
            <p:ph/>
          </p:nvPr>
        </p:nvSpPr>
        <p:spPr>
          <a:xfrm>
            <a:off x="456840" y="990360"/>
            <a:ext cx="8381880" cy="556236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cceleration of an object is directly proportional to the net force acting on that object and inversely proportional to the mass of the object.*</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example: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or</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tronger the net force applied, the </a:t>
            </a:r>
            <a:r>
              <a:rPr b="0" lang="en-US" sz="3600" spc="-1" strike="noStrike">
                <a:solidFill>
                  <a:srgbClr val="ffffff"/>
                </a:solidFill>
                <a:latin typeface="Arial"/>
              </a:rPr>
              <a:t>bigger</a:t>
            </a:r>
            <a:r>
              <a:rPr b="0" lang="en-US" sz="2800" spc="-1" strike="noStrike">
                <a:solidFill>
                  <a:srgbClr val="ffffff"/>
                </a:solidFill>
                <a:latin typeface="Arial"/>
              </a:rPr>
              <a:t> the acceleration.</a:t>
            </a:r>
            <a:endParaRPr b="0" lang="en-US" sz="28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re massive the object, the </a:t>
            </a:r>
            <a:r>
              <a:rPr b="0" lang="en-US" sz="2000" spc="-1" strike="noStrike">
                <a:solidFill>
                  <a:srgbClr val="ffffff"/>
                </a:solidFill>
                <a:latin typeface="Arial"/>
              </a:rPr>
              <a:t>smaller </a:t>
            </a:r>
            <a:r>
              <a:rPr b="0" lang="en-US" sz="2800" spc="-1" strike="noStrike">
                <a:solidFill>
                  <a:srgbClr val="ffffff"/>
                </a:solidFill>
                <a:latin typeface="Arial"/>
              </a:rPr>
              <a:t>the acceleration.</a:t>
            </a:r>
            <a:endParaRPr b="0" lang="en-US" sz="2800" spc="-1" strike="noStrike">
              <a:solidFill>
                <a:srgbClr val="ffffff"/>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why it requires less force to accelerate a tennis ball than a bowling ball.</a:t>
            </a:r>
            <a:endParaRPr b="0" lang="en-US" sz="2800" spc="-1" strike="noStrike">
              <a:solidFill>
                <a:srgbClr val="ffffff"/>
              </a:solidFill>
              <a:latin typeface="Arial"/>
            </a:endParaRPr>
          </a:p>
        </p:txBody>
      </p:sp>
      <mc:AlternateContent>
        <mc:Choice xmlns:a14="http://schemas.microsoft.com/office/drawing/2010/main" Requires="a14">
          <p:sp>
            <p:nvSpPr>
              <p:cNvPr id="531" name=""/>
              <p:cNvSpPr txBox="1"/>
              <p:nvPr/>
            </p:nvSpPr>
            <p:spPr>
              <a:xfrm>
                <a:off x="3886200" y="2438280"/>
                <a:ext cx="1600200" cy="879480"/>
              </a:xfrm>
              <a:prstGeom prst="rect">
                <a:avLst/>
              </a:prstGeom>
            </p:spPr>
            <p:txBody>
              <a:bodyPr/>
              <a:p>
                <a14:m>
                  <m:oMath xmlns:m="http://schemas.openxmlformats.org/officeDocument/2006/math">
                    <m:r>
                      <m:t xml:space="preserve">a</m:t>
                    </m:r>
                    <m:r>
                      <m:t xml:space="preserve">=</m:t>
                    </m:r>
                    <m:f>
                      <m:num>
                        <m:sSub>
                          <m:e>
                            <m:r>
                              <m:t xml:space="preserve">F</m:t>
                            </m:r>
                          </m:e>
                          <m:sub>
                            <m:r>
                              <m:rPr>
                                <m:lit/>
                                <m:nor/>
                              </m:rPr>
                              <m:t xml:space="preserve">net</m:t>
                            </m:r>
                          </m:sub>
                        </m:sSub>
                      </m:num>
                      <m:den>
                        <m:r>
                          <m:t xml:space="preserve">m</m:t>
                        </m:r>
                      </m:den>
                    </m:f>
                  </m:oMath>
                </a14:m>
              </a:p>
            </p:txBody>
          </p:sp>
        </mc:Choice>
        <mc:Fallback/>
      </mc:AlternateContent>
      <mc:AlternateContent>
        <mc:Choice xmlns:a14="http://schemas.microsoft.com/office/drawing/2010/main" Requires="a14">
          <p:sp>
            <p:nvSpPr>
              <p:cNvPr id="532" name=""/>
              <p:cNvSpPr txBox="1"/>
              <p:nvPr/>
            </p:nvSpPr>
            <p:spPr>
              <a:xfrm>
                <a:off x="6629400" y="2514600"/>
                <a:ext cx="2214720" cy="830160"/>
              </a:xfrm>
              <a:prstGeom prst="rect">
                <a:avLst/>
              </a:prstGeom>
            </p:spPr>
            <p:txBody>
              <a:bodyPr/>
              <a:p>
                <a14:m>
                  <m:oMath xmlns:m="http://schemas.openxmlformats.org/officeDocument/2006/math">
                    <m:sSub>
                      <m:e>
                        <m:r>
                          <m:t xml:space="preserve">F</m:t>
                        </m:r>
                      </m:e>
                      <m:sub>
                        <m:r>
                          <m:rPr>
                            <m:lit/>
                            <m:nor/>
                          </m:rPr>
                          <m:t xml:space="preserve">net</m:t>
                        </m:r>
                      </m:sub>
                    </m:sSub>
                    <m:r>
                      <m:t xml:space="preserve">=</m:t>
                    </m:r>
                    <m:r>
                      <m:rPr>
                        <m:lit/>
                        <m:nor/>
                      </m:rPr>
                      <m:t xml:space="preserve">ma</m:t>
                    </m:r>
                  </m:oMath>
                </a14:m>
              </a:p>
            </p:txBody>
          </p:sp>
        </mc:Choice>
        <mc:Fallback/>
      </mc:AlternateContent>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30">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31"/>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30">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32"/>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30">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30">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a16"/>
            </a:gs>
            <a:gs pos="100000">
              <a:srgbClr val="4e5d31"/>
            </a:gs>
          </a:gsLst>
          <a:lin ang="135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36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ewton’s Second Law</a:t>
            </a:r>
            <a:endParaRPr b="0" lang="en-US" sz="4000" spc="-1" strike="noStrike">
              <a:solidFill>
                <a:srgbClr val="ffffcc"/>
              </a:solidFill>
              <a:latin typeface="Arial"/>
            </a:endParaRPr>
          </a:p>
        </p:txBody>
      </p:sp>
      <p:sp>
        <p:nvSpPr>
          <p:cNvPr id="534" name="PlaceHolder 2"/>
          <p:cNvSpPr>
            <a:spLocks noGrp="1"/>
          </p:cNvSpPr>
          <p:nvPr>
            <p:ph/>
          </p:nvPr>
        </p:nvSpPr>
        <p:spPr>
          <a:xfrm>
            <a:off x="456840" y="761760"/>
            <a:ext cx="8381880" cy="51433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Newton’s Second Law that gives us the equation for the force due to gravity, or weight.</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a 2kg object is in free fall, the only force (and therefore the net force) acting on an object is the force due to gravity.</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s =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cceleration=</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we can calculate the net force acting on it using Newton’s Second Law.</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mc:AlternateContent>
        <mc:Choice xmlns:a14="http://schemas.microsoft.com/office/drawing/2010/main" Requires="a14">
          <p:sp>
            <p:nvSpPr>
              <p:cNvPr id="535" name=""/>
              <p:cNvSpPr txBox="1"/>
              <p:nvPr/>
            </p:nvSpPr>
            <p:spPr>
              <a:xfrm>
                <a:off x="3216240" y="5867280"/>
                <a:ext cx="2028960" cy="830520"/>
              </a:xfrm>
              <a:prstGeom prst="rect">
                <a:avLst/>
              </a:prstGeom>
            </p:spPr>
            <p:txBody>
              <a:bodyPr/>
              <a:p>
                <a14:m>
                  <m:oMath xmlns:m="http://schemas.openxmlformats.org/officeDocument/2006/math">
                    <m:sSub>
                      <m:e>
                        <m:r>
                          <m:t xml:space="preserve">F</m:t>
                        </m:r>
                      </m:e>
                      <m:sub>
                        <m:r>
                          <m:t xml:space="preserve">w</m:t>
                        </m:r>
                      </m:sub>
                    </m:sSub>
                    <m:r>
                      <m:t xml:space="preserve">=</m:t>
                    </m:r>
                    <m:r>
                      <m:rPr>
                        <m:lit/>
                        <m:nor/>
                      </m:rPr>
                      <m:t xml:space="preserve">mg</m:t>
                    </m:r>
                  </m:oMath>
                </a14:m>
              </a:p>
            </p:txBody>
          </p:sp>
        </mc:Choice>
        <mc:Fallback/>
      </mc:AlternateContent>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34">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534">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534">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534">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5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a16"/>
            </a:gs>
            <a:gs pos="100000">
              <a:srgbClr val="4e5d31"/>
            </a:gs>
          </a:gsLst>
          <a:lin ang="135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cceleration and mass are …</a:t>
            </a:r>
            <a:endParaRPr b="0" lang="en-US" sz="4400" spc="-1" strike="noStrike">
              <a:solidFill>
                <a:srgbClr val="ffffcc"/>
              </a:solidFill>
              <a:latin typeface="Arial"/>
            </a:endParaRPr>
          </a:p>
        </p:txBody>
      </p:sp>
      <p:graphicFrame>
        <p:nvGraphicFramePr>
          <p:cNvPr id="537" name="TPChart"/>
          <p:cNvGraphicFramePr/>
          <p:nvPr/>
        </p:nvGraphicFramePr>
        <p:xfrm>
          <a:off x="4508640" y="1650960"/>
          <a:ext cx="4570200" cy="5141880"/>
        </p:xfrm>
        <a:graphic>
          <a:graphicData uri="http://schemas.openxmlformats.org/presentationml/2006/ole">
            <p:oleObj r:id="rId1" spid="">
              <p:embed/>
              <p:pic>
                <p:nvPicPr>
                  <p:cNvPr id="538"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539" name="PlaceHolder 2"/>
          <p:cNvSpPr>
            <a:spLocks noGrp="1"/>
          </p:cNvSpPr>
          <p:nvPr>
            <p:ph/>
          </p:nvPr>
        </p:nvSpPr>
        <p:spPr>
          <a:xfrm>
            <a:off x="457200" y="1600200"/>
            <a:ext cx="4572000" cy="4533840"/>
          </a:xfrm>
          <a:prstGeom prst="rect">
            <a:avLst/>
          </a:prstGeom>
          <a:noFill/>
          <a:ln w="0">
            <a:noFill/>
          </a:ln>
        </p:spPr>
        <p:txBody>
          <a:bodyPr lIns="90000" rIns="90000" tIns="46800" bIns="46800" anchor="t">
            <a:normAutofit/>
          </a:bodyPr>
          <a:p>
            <a:pPr marL="609480" indent="-609480">
              <a:spcBef>
                <a:spcPts val="799"/>
              </a:spcBef>
              <a:buClr>
                <a:srgbClr val="33cc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ly proportional</a:t>
            </a:r>
            <a:endParaRPr b="0" lang="en-US" sz="3200" spc="-1" strike="noStrike">
              <a:solidFill>
                <a:srgbClr val="ffffff"/>
              </a:solidFill>
              <a:latin typeface="Arial"/>
            </a:endParaRPr>
          </a:p>
          <a:p>
            <a:pPr marL="609480" indent="-609480">
              <a:spcBef>
                <a:spcPts val="799"/>
              </a:spcBef>
              <a:buClr>
                <a:srgbClr val="33cc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ersely proportional</a:t>
            </a:r>
            <a:endParaRPr b="0" lang="en-US" sz="3200" spc="-1" strike="noStrike">
              <a:solidFill>
                <a:srgbClr val="ffffff"/>
              </a:solidFill>
              <a:latin typeface="Arial"/>
            </a:endParaRPr>
          </a:p>
          <a:p>
            <a:pPr marL="609480" indent="-609480">
              <a:spcBef>
                <a:spcPts val="799"/>
              </a:spcBef>
              <a:buClr>
                <a:srgbClr val="33cc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me thing</a:t>
            </a:r>
            <a:endParaRPr b="0" lang="en-US" sz="3200" spc="-1" strike="noStrike">
              <a:solidFill>
                <a:srgbClr val="ffffff"/>
              </a:solidFill>
              <a:latin typeface="Arial"/>
            </a:endParaRPr>
          </a:p>
          <a:p>
            <a:pPr marL="609480" indent="-609480">
              <a:spcBef>
                <a:spcPts val="799"/>
              </a:spcBef>
              <a:buClr>
                <a:srgbClr val="33cc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vided by one another to obtain an objects net force.</a:t>
            </a:r>
            <a:endParaRPr b="0" lang="en-US" sz="3200" spc="-1" strike="noStrike">
              <a:solidFill>
                <a:srgbClr val="ffffff"/>
              </a:solidFill>
              <a:latin typeface="Arial"/>
            </a:endParaRPr>
          </a:p>
        </p:txBody>
      </p:sp>
      <p:grpSp>
        <p:nvGrpSpPr>
          <p:cNvPr id="540" name="ResponseCounter"/>
          <p:cNvGrpSpPr/>
          <p:nvPr/>
        </p:nvGrpSpPr>
        <p:grpSpPr>
          <a:xfrm>
            <a:off x="127080" y="5778360"/>
            <a:ext cx="952200" cy="952560"/>
            <a:chOff x="127080" y="5778360"/>
            <a:chExt cx="952200" cy="952560"/>
          </a:xfrm>
        </p:grpSpPr>
        <p:sp>
          <p:nvSpPr>
            <p:cNvPr id="541" name="RCOuter" hidden="1"/>
            <p:cNvSpPr/>
            <p:nvPr/>
          </p:nvSpPr>
          <p:spPr>
            <a:xfrm>
              <a:off x="127080" y="5778360"/>
              <a:ext cx="952200" cy="952560"/>
            </a:xfrm>
            <a:prstGeom prst="ellipse">
              <a:avLst/>
            </a:prstGeom>
            <a:gradFill rotWithShape="0">
              <a:gsLst>
                <a:gs pos="0">
                  <a:srgbClr val="8f8c00"/>
                </a:gs>
                <a:gs pos="100000">
                  <a:srgbClr val="424f29">
                    <a:alpha val="50196"/>
                  </a:srgbClr>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2" name="RCInner" hidden="1"/>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1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5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a16"/>
            </a:gs>
            <a:gs pos="100000">
              <a:srgbClr val="4e5d31"/>
            </a:gs>
          </a:gsLst>
          <a:lin ang="13500000"/>
        </a:gra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An object in free fall has a net force acting on it equal to…</a:t>
            </a:r>
            <a:endParaRPr b="0" lang="en-US" sz="4000" spc="-1" strike="noStrike">
              <a:solidFill>
                <a:srgbClr val="ffffcc"/>
              </a:solidFill>
              <a:latin typeface="Arial"/>
            </a:endParaRPr>
          </a:p>
        </p:txBody>
      </p:sp>
      <p:graphicFrame>
        <p:nvGraphicFramePr>
          <p:cNvPr id="544" name="TPChart"/>
          <p:cNvGraphicFramePr/>
          <p:nvPr/>
        </p:nvGraphicFramePr>
        <p:xfrm>
          <a:off x="4508640" y="1650960"/>
          <a:ext cx="4570200" cy="5141880"/>
        </p:xfrm>
        <a:graphic>
          <a:graphicData uri="http://schemas.openxmlformats.org/presentationml/2006/ole">
            <p:oleObj r:id="rId1" spid="">
              <p:embed/>
              <p:pic>
                <p:nvPicPr>
                  <p:cNvPr id="545"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546" name="PlaceHolder 2"/>
          <p:cNvSpPr>
            <a:spLocks noGrp="1"/>
          </p:cNvSpPr>
          <p:nvPr>
            <p:ph/>
          </p:nvPr>
        </p:nvSpPr>
        <p:spPr>
          <a:xfrm>
            <a:off x="457200" y="1600200"/>
            <a:ext cx="4114800" cy="4533840"/>
          </a:xfrm>
          <a:prstGeom prst="rect">
            <a:avLst/>
          </a:prstGeom>
          <a:noFill/>
          <a:ln w="0">
            <a:noFill/>
          </a:ln>
        </p:spPr>
        <p:txBody>
          <a:bodyPr lIns="90000" rIns="90000" tIns="46800" bIns="46800" anchor="t">
            <a:normAutofit/>
          </a:bodyPr>
          <a:p>
            <a:pPr marL="609480" indent="-609480">
              <a:spcBef>
                <a:spcPts val="799"/>
              </a:spcBef>
              <a:buClr>
                <a:srgbClr val="33cc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weight</a:t>
            </a:r>
            <a:endParaRPr b="0" lang="en-US" sz="3200" spc="-1" strike="noStrike">
              <a:solidFill>
                <a:srgbClr val="ffffff"/>
              </a:solidFill>
              <a:latin typeface="Arial"/>
            </a:endParaRPr>
          </a:p>
          <a:p>
            <a:pPr marL="609480" indent="-609480">
              <a:spcBef>
                <a:spcPts val="799"/>
              </a:spcBef>
              <a:buClr>
                <a:srgbClr val="33cc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mass</a:t>
            </a:r>
            <a:endParaRPr b="0" lang="en-US" sz="3200" spc="-1" strike="noStrike">
              <a:solidFill>
                <a:srgbClr val="ffffff"/>
              </a:solidFill>
              <a:latin typeface="Arial"/>
            </a:endParaRPr>
          </a:p>
          <a:p>
            <a:pPr marL="609480" indent="-609480">
              <a:spcBef>
                <a:spcPts val="799"/>
              </a:spcBef>
              <a:buClr>
                <a:srgbClr val="33cc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m/s</a:t>
            </a:r>
            <a:r>
              <a:rPr b="0" lang="en-US" sz="3200" spc="-1" strike="noStrike" baseline="30000">
                <a:solidFill>
                  <a:srgbClr val="ffffff"/>
                </a:solidFill>
                <a:latin typeface="Arial"/>
              </a:rPr>
              <a:t>2</a:t>
            </a:r>
            <a:endParaRPr b="0" lang="en-US" sz="3200" spc="-1" strike="noStrike">
              <a:solidFill>
                <a:srgbClr val="ffffff"/>
              </a:solidFill>
              <a:latin typeface="Arial"/>
            </a:endParaRPr>
          </a:p>
          <a:p>
            <a:pPr marL="609480" indent="-609480">
              <a:spcBef>
                <a:spcPts val="799"/>
              </a:spcBef>
              <a:buClr>
                <a:srgbClr val="33cc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N</a:t>
            </a:r>
            <a:endParaRPr b="0" lang="en-US" sz="3200" spc="-1" strike="noStrike">
              <a:solidFill>
                <a:srgbClr val="ffffff"/>
              </a:solidFill>
              <a:latin typeface="Arial"/>
            </a:endParaRPr>
          </a:p>
          <a:p>
            <a:pPr marL="609480" indent="-609480">
              <a:spcBef>
                <a:spcPts val="799"/>
              </a:spcBef>
              <a:buClr>
                <a:srgbClr val="33cc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 N</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547" name="ResponseCounter"/>
          <p:cNvGrpSpPr/>
          <p:nvPr/>
        </p:nvGrpSpPr>
        <p:grpSpPr>
          <a:xfrm>
            <a:off x="127080" y="6413400"/>
            <a:ext cx="3860640" cy="317520"/>
            <a:chOff x="127080" y="6413400"/>
            <a:chExt cx="3860640" cy="317520"/>
          </a:xfrm>
        </p:grpSpPr>
        <p:sp>
          <p:nvSpPr>
            <p:cNvPr id="548" name="RCFill" hidden="1"/>
            <p:cNvSpPr/>
            <p:nvPr/>
          </p:nvSpPr>
          <p:spPr>
            <a:xfrm>
              <a:off x="127080" y="6451560"/>
              <a:ext cx="212364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9" name="RCFrame" hidden="1"/>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11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5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7:39:45Z</dcterms:created>
  <dc:creator>End User</dc:creator>
  <dc:description/>
  <dc:language>en-US</dc:language>
  <cp:lastModifiedBy>Network User</cp:lastModifiedBy>
  <dcterms:modified xsi:type="dcterms:W3CDTF">2008-07-10T13:43:47Z</dcterms:modified>
  <cp:revision>59</cp:revision>
  <dc:subject/>
  <dc:title>Lesson #1 8/29/06 </dc:title>
</cp:coreProperties>
</file>